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209-2A0A-4485-AB0E-DCEA07BB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08F-2B2B-4925-B85B-975F41E3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E3C-4D54-4E35-B7E7-12003419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FFD-7F95-49A3-859D-B53D8100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195-FE71-4E03-9A7F-0F1DAF15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D69-51B4-4557-8718-D42A02CC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F14-4DA5-4E4B-9571-CA8704BD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94C-84D7-458B-B8E2-F78EC139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074-EB30-4C05-9228-16E0EAAA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8CD-FD35-431A-BD48-8DD60943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4F6-6946-491E-9639-5830B0D3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D3D-9F21-4621-A792-BFFFAC6C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070D-9176-4704-B68F-BA7CBF3A9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815328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532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//factori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misterio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n==0) 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;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&gt;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umero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? en 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&lt;=2? i-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y || y==0 ? 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//cuentaRegresiva en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“diez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or(int i=9; i&gt;=0; --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Digito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(“\n”); //U.println(“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binaciones entre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x=0,n=0; x&lt;=9; ++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y=x+1; y&lt;=9; ++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int 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!=y) U.println(++n +”:”+x +“,“+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1: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2: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º:9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330120"/>
          <a:ext cx="8318520" cy="69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30120"/>
                    <a:ext cx="831852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95360" y="419040"/>
          <a:ext cx="819144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19040"/>
                    <a:ext cx="819144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5820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seleccionar mayor entre dos fe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2=U.readInt(“fecha2(ddmmaaaa)?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mayor=“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dmmaaaa(Math.max(aaaammdd(f1),aaaammdd(f2)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ddmmaaaa a la forma aaaamm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/1000000, mm=x/10000%100, aaaa=x%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aaaa*10000 + mm*100 + d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aaaammdd a la forma ddmm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%100, mm=x%10000/100, aaaa=x/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dd*1000000 + mm*10000 + aaa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roducto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roducto=producto*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&gt;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produc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1/produc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rones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mientras          //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14440" y="495360"/>
          <a:ext cx="8143920" cy="67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4392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9-03-31T12:31:19Z</dcterms:modified>
  <cp:revision>55</cp:revision>
  <dc:subject/>
  <dc:title>Diapositiva 1</dc:title>
</cp:coreProperties>
</file>