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(operadores/insts especi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-agosto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2DF6-F971-4BEB-95ED-F52F116692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(operadores/insts especi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-agosto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36A8-985F-4B4C-A8B8-657CDA9C52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(operadores/insts especi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-agosto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FD06-6EA7-47CF-BC9F-9725FF2FE9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B52-074A-472D-A991-F60ED1E8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40D-004A-45E4-BDF7-748AA91C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E56-5963-4884-B231-F330B965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D85-C9E9-489E-B1A4-BC258ADB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A373-5C57-4CD2-9B4D-F5F2D77F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4859-A045-4876-AE1B-96D49D0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1D73-B059-4166-9E6C-5D8A3307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F4EF-E8CE-47C6-815A-E8265EDF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612E-A276-4819-B144-530B49C5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6892-BD47-4974-B477-9930BE67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8587-6556-45E6-BE26-B089485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77B-0CFA-416E-84A2-18E25015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CE7-668F-4BC5-95C9-1E025CD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9579-CF7C-4342-85FC-2631D4A4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6908-044D-4FDC-9985-3A30F9EE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0231-CA4D-436E-B285-8BABEE9F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68EE-3420-49E8-B7F3-FB4952B7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78069-CA96-4686-B21A-21FF2271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A5C8C-41E8-430D-8AAE-1D553FAB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F6FC2-00BA-4636-9DC1-C2980984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C3A64-5333-4DA1-B598-DA96631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B4052-6DF8-489B-ACB8-7FB28F64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FD2-7C20-47E8-8132-201D7C1C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B6B27-50D2-437F-B98C-E3A72B00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79CDD-EC68-4194-8006-010E333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38199-F906-4BFB-AF83-D2F062C5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0F5EE-3DD0-4E40-861C-EA73A02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0703C-822D-4374-B942-1F8D614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AD594-DD3E-4874-A5E8-D28EEA87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2A974-43C1-4BF4-9876-E4CED883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EA38-3EE8-4D1C-A021-39B5CF8F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7685-C7C1-4189-A292-27C6DE16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54497-693C-4EAE-B341-F8F887B6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966-CB60-45E7-A2D2-8129FF4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5C4C-E3C9-4315-8025-225560C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3434-61AE-4235-BFF8-E189F782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FA0F-14E0-4233-ADEC-8C2B7CE8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8752-0964-4E29-94DF-458EAA3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215A-E56E-48B0-9C93-DD683C8F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635B-A675-4722-91EA-9ACEA3E4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DC77-B41B-435B-AC35-0AAEDE71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AAB1-C8C8-4840-A756-9DEE8FEA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F301-9F63-4AC4-AB88-F182C53A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BC2D5-F253-4014-B06C-E4DFB26D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B08-FE74-4737-A964-DD91239C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D9DE4B-91B7-405D-9AC3-C9B4A6D3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FBACC-FD3C-4E3E-A811-AE433FAF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2AF2C-9AE0-441C-809A-92FC211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E786B-619B-4DA7-9C7E-4E128C2F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EC938-AC90-40F2-B224-C5B53D8F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3A7C3-B599-4DDB-ABD6-737C547C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8C447-72A5-420C-A999-708459E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4D53C-A0A9-4F49-A653-FB0B029D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54D84-FFA7-4227-B821-36824D6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B6AC1-8CF1-45F7-819F-8D963805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095-F9A3-4536-B634-C5EB84A6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7E68B-7A4A-409A-B4A3-689F3698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ED652-2EF8-4886-A899-98E602DA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FAD19-9BA5-46C6-9496-54AF3D96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4715C-F18F-4E94-AB15-83165310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FE1FE-C22C-4523-9E14-8B98A819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A087E-BC7F-42AD-AB06-E7F974B1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99F65-42F2-4BFB-8BF7-AA85101A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40272-AAEE-42F9-90AD-A81D4832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CE6F3-86E6-471E-8BB9-ED652AE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2E9A3-3447-4C2F-9F83-6BE6BF93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E6C-B698-4397-B279-E83FCC8B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5DF0C-40A8-4964-A352-2EE4D9A8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9726D-CE78-4494-8A6B-8D6E13ED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788B8-6320-4122-A75E-0F17CD0C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AE76A-AE64-46E2-A60D-9D0C4620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4051D-FC08-4BD2-BE14-5DF2ACB2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15579-83D7-48CE-8700-C611B6AE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55A50-9BD0-4542-88FC-9B60CD30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13941-19E4-4C9C-8A7C-DE5B2D17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748DA-3B41-40D9-9574-59C03201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DF742-2092-49FE-929D-E0AC6A2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CAC-906A-4BD4-BE33-C479D3DC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652CC-69E0-46BC-8229-DE4188B7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89534-82BA-4CD7-ABCB-361C7936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867C4-2B4A-4886-AD33-62B6DCA7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4CA1B-2DB5-4852-A36F-65C3F8F5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BC2E3-6A47-4075-80B4-D49E2D23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B07-FC05-49A9-B6CE-30DCC2D1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A5A0-B825-4650-A32F-A8F202C9D7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3177-9962-403C-975F-033266DBBD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CCA0-4E1A-4173-BB9E-2BE54297F6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DE5F-46A7-491A-8BB7-BBDD446C25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DC5A-B251-4DA2-9321-4073637280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4710-3DCB-4A07-A6A6-53C9E07F6D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CB3C-DBC8-4EBA-A932-89F342A292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Victor Ramiro</cp:lastModifiedBy>
  <cp:lastPrinted>2005-03-29T16:14:14Z</cp:lastPrinted>
  <dcterms:modified xsi:type="dcterms:W3CDTF">2010-04-14T05:46:51Z</dcterms:modified>
  <cp:revision>44</cp:revision>
  <dc:subject/>
  <dc:title>Sin título de diapositiva</dc:title>
</cp:coreProperties>
</file>