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4E8F-C47E-47E1-8DCA-5DE6A2BF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ED56-D97A-4003-995C-1DC7B91A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0010-B4D7-4C9C-B4D2-6E37FD7E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3D1D-25F1-42D5-B0AA-D2861A1B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696-F03E-42BA-925F-9FCE3CEB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470B-89EC-4C32-90C7-CC3E5EA0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3796-36D8-4346-B8AD-59924B5D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6A2D-506B-4346-8641-E581324E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56F1-35DF-4FB6-8039-7C9286AC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0318-860F-4245-8A53-7260FF4F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9896-E5CB-445B-8082-CEBD80D3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EB51-86D1-4301-8545-E614B423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854F-2319-499B-9F11-B04F55A7A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95480" y="601560"/>
          <a:ext cx="7315200" cy="762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601560"/>
                    <a:ext cx="7315200" cy="762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93800" y="722160"/>
          <a:ext cx="81216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722160"/>
                    <a:ext cx="8121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66800" y="681120"/>
          <a:ext cx="7991280" cy="70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81120"/>
                    <a:ext cx="7991280" cy="70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43040" y="803160"/>
          <a:ext cx="790416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79041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30200" y="457200"/>
          <a:ext cx="8659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57200"/>
                    <a:ext cx="8659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96800" y="646200"/>
          <a:ext cx="84726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646200"/>
                    <a:ext cx="84726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38200" y="484200"/>
          <a:ext cx="8458200" cy="720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84200"/>
                    <a:ext cx="8458200" cy="72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50800" y="511200"/>
          <a:ext cx="833760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33760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50800" y="511200"/>
          <a:ext cx="8096400" cy="661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096400" cy="66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989000"/>
            <a:ext cx="8207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permutaciones(int x,int y) //x!/(x-y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combinaciones(int x,int y) //x!/(y!(x-y)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fibonacci(int i)//entrega i-ésimo nº de 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ros: 0, 1, 1, 2, 3, 5, 8, 13, 21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inverso(int x)//inverso(123) entrega 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63600" y="793800"/>
          <a:ext cx="705024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793800"/>
                    <a:ext cx="70502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70040" y="480960"/>
          <a:ext cx="816912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16912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70040" y="480960"/>
          <a:ext cx="802476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02476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19200"/>
          <a:ext cx="73724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19200"/>
                    <a:ext cx="73724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30400" y="927000"/>
          <a:ext cx="735156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7000"/>
                    <a:ext cx="73515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6-03-22T18:37:38Z</cp:lastPrinted>
  <dcterms:modified xsi:type="dcterms:W3CDTF">2009-03-23T13:25:22Z</dcterms:modified>
  <cp:revision>30</cp:revision>
  <dc:subject/>
  <dc:title>Sin título de diapositiva</dc:title>
</cp:coreProperties>
</file>