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BEC-989A-4D89-85B4-2913C57F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A8E-676B-4CE8-88CB-0B08341B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994-4775-4748-922B-F0343077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2249-3FFC-46C4-BD0E-DD24B399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2E6-26FE-415D-9E25-51203CE3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7FB5-7330-42AE-8471-B1B17D5C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8CD9-8A8B-404A-8FE3-2606A362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4429-04D7-450F-BA8C-B7E6EE0C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F6CC-97E6-4E2C-83EF-D0916D18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DEEA-B566-4916-BE0F-5F81F254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93D3-9201-48F4-BE7B-C01E0EE4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BD40-7A20-4934-80FC-0C8A4F53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836F-5DB3-4AF8-BC09-19B5F1C9C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95480" y="601560"/>
          <a:ext cx="7315200" cy="762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601560"/>
                    <a:ext cx="7315200" cy="762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93800" y="722160"/>
          <a:ext cx="81216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722160"/>
                    <a:ext cx="8121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66800" y="681120"/>
          <a:ext cx="79912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81120"/>
                    <a:ext cx="79912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43040" y="803160"/>
          <a:ext cx="790416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79041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30200" y="457200"/>
          <a:ext cx="8659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57200"/>
                    <a:ext cx="8659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96800" y="646200"/>
          <a:ext cx="84726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646200"/>
                    <a:ext cx="84726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38200" y="484200"/>
          <a:ext cx="8458200" cy="720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84200"/>
                    <a:ext cx="8458200" cy="72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50800" y="511200"/>
          <a:ext cx="833760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33760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50800" y="511200"/>
          <a:ext cx="8096400" cy="661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96400" cy="66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permutaciones(int x,int y) //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combinaciones(int x,int y) //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fibonacci(int i)//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inverso(int x)//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3600" y="793800"/>
          <a:ext cx="705024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793800"/>
                    <a:ext cx="70502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70040" y="480960"/>
          <a:ext cx="816912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16912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70040" y="480960"/>
          <a:ext cx="802476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02476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19200"/>
          <a:ext cx="73724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19200"/>
                    <a:ext cx="73724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30400" y="927000"/>
          <a:ext cx="73515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7000"/>
                    <a:ext cx="73515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6-03-22T18:37:38Z</cp:lastPrinted>
  <dcterms:modified xsi:type="dcterms:W3CDTF">2009-03-23T13:25:22Z</dcterms:modified>
  <cp:revision>30</cp:revision>
  <dc:subject/>
  <dc:title>Sin título de diapositiva</dc:title>
</cp:coreProperties>
</file>