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2.pct" ContentType="image/x-pict"/>
  <Override PartName="/ppt/media/image4.wmf" ContentType="image/x-wmf"/>
  <Override PartName="/ppt/media/image3.pct" ContentType="image/x-pict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9E6BBC-7027-4835-93EF-923B8E8AE2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9D6E7A-5FCA-4A3E-A968-8C0CD8A692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1E104D-3B5C-44D1-9E1A-70AB6BB738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850-B25E-499C-AB02-5E954022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BF7-5594-4EF6-98DD-A1607AB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5C5-891A-4E70-8AED-488A5B70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94B-EACB-4244-81C5-5B297CF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F0D-B1A8-49CD-87BC-FBA0769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A41-4A92-4B5C-B406-A68414EB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4F06-7045-4692-9CC7-57163578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4A49-0E11-4FA9-850E-3B5B7187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39A-726A-4D73-BDF3-9015CA2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3CA-295A-47DD-B586-79D213E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509-9122-4ABD-BC95-BFA07A8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447-136C-4A2B-B029-7F9A3158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1DE-08DB-49D1-99FB-799C703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166-0DD8-4BE8-9504-CA98496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D5F-C135-48D7-BB53-2229381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E103-B789-4C70-9C2C-496F3352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2A4-4C1F-40CA-8D97-D8BF7829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FC7DB-DCF6-43C3-BFAC-549567F3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DE667-6D3E-44BC-8DD5-227D2118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6ADF2-53BF-46A8-B304-C5BD159B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0194E-B1E7-4310-BE75-8CD80945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CA081-CBAD-4F7D-958A-DB68FFF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D49-BEE7-40B0-8F91-0D538EA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7E84A-024F-43FF-9FC0-D54847E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6A69D-B89A-44E9-9EAD-7581C07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BF369-006D-4C59-8430-1AE62A90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20CD7-E32B-4A9B-927D-E524CB80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D573E-7804-45BC-80A1-66C4340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B3043-FC60-449B-A063-40CBFEAC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68F90-F56E-4E90-833D-EED994B0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DB26-62DA-4BB2-A908-FBB6A753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5F81-9668-470A-B8F8-869AD3F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9A4D-3FF9-40A3-A10F-AD5DB3EB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354-7D94-4A0B-B8D0-5DE4A0F5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CA46-EF54-497E-9AC6-F26D1114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A776-F3BE-4E75-9CCB-FD44B4C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F605-4489-40AB-BC35-8C2548C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5665-F518-47DD-B9A0-5E36DE7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7209-4238-4802-819D-A680175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9A5E-E44F-420A-8C2B-4B475E5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287E-677A-4BE7-B12A-9F87200F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83C5-C297-4FFD-8688-1D9D3B32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D22B-6FE8-4995-AF22-A4453BFB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7D218-0DBF-4ECD-9914-8AE402F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85E-9ED2-4311-87D6-484D37D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5AC03-D032-413C-A4CC-21E94700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6AFB9-26CA-4C32-B418-DF818FD4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A7CDF-5C19-42C4-837C-8C5D438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656E5-B11B-4FFF-BAB8-F1EA4D44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4E207-1F91-43E9-B256-93814F91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BBF7F-6D5F-4369-9A19-9D1F6FD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58BAD-0878-4B35-A4D6-9FFD159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B41A5-ECFA-4C03-BF75-3FA1A00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7E167-17E2-445D-B852-8BA30EA3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BF1A0-75B6-4A55-8473-CB58EF89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E92-8EC1-4033-B9A4-1E0048C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C1117-8D9B-4CF4-ADEB-03478CFA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78229-4535-42A0-B746-F2A4B6A6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79AD8-7839-430B-9D9D-32E25F75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7C41A-0836-41AC-A6F5-2747AC8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C95B0-9BC7-4664-989D-B23E39DB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6D999-D90B-49D5-97B9-46B5962D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08ED2-DE13-44B5-B107-FD849039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76D7C-339A-4B30-A601-0FF7F80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30E52-3E3E-44D6-BDD5-C911C7D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8AEBF-FE00-455C-96E6-AD0652B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84D-210C-46A8-AA7F-CAAFA65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95FD6-D798-4764-906C-998EC660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2D18A-FCD9-4776-805C-02FED58D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C0257-7E93-4367-9609-52699EB8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8AA6A-D2F7-49F0-A89A-7CD805D3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8E682-EAB2-4F1E-A8DA-A820677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174F5-B804-4B91-9A62-9E7C7A3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7016A-0098-40E9-BF31-7894CF45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FE3C7-D4D3-431C-8B30-E76D0ED7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CDB44-63CF-43E4-BC61-A885F10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C2663-1760-4D19-A3B3-F7E2F4A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DBF-5111-4984-A4C0-BED6CC9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63277-D796-4323-9016-994DC01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E904A-DF04-42E7-A818-69F0D8C8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E1FD4-57AE-4E32-8C53-35307D4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DFD94-E622-46C4-B679-7E127FBB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BE78B-2179-4547-9BCF-4EB4710A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9B25B-CA2A-4CAA-9DAE-07BDD042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E630-3FB7-4917-83C7-C9018E4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F534E-DF07-4CBB-8982-9E88CA3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81C1-BBDE-4C24-B717-49ECB008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2171-1FE9-4DA3-925D-7F1BDE47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1CA-3D7A-49B3-AC75-B70F214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97F3-22F1-4C07-90B6-D5D428D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3DAF4-C349-466B-B9E2-2201EA7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80746-94DA-4144-AFC3-97715AA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09F10-2B0D-4DBC-AE0E-BD4079A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E185-F8F0-46BC-B24A-B9F10C8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518B-9003-4672-951D-5711A686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38DE8-D83A-49DC-8B91-E81A6AD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C76-791C-4C30-BC2F-85661FB0C8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D8C-1AE5-4CF9-AA21-5744D8EAB6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FF6E-26CF-4FB3-BE1E-40168E89C5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1BD-FFAA-4656-B050-ECD5C76EFD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8E9-586C-4509-9F29-DE68514B90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299-FB72-4A53-94E1-D3064D484B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D12-51F6-4625-9F6D-88859B6D32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A8F-5777-4FE7-A6B7-F74A4BCAD6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92160" y="2000160"/>
          <a:ext cx="7526520" cy="30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000160"/>
                    <a:ext cx="75265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5"/>
          <p:cNvSpPr/>
          <p:nvPr/>
        </p:nvSpPr>
        <p:spPr>
          <a:xfrm>
            <a:off x="331920" y="2685960"/>
            <a:ext cx="8202600" cy="31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04880" y="1362240"/>
          <a:ext cx="7978680" cy="44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62240"/>
                    <a:ext cx="79786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704880" y="2265480"/>
          <a:ext cx="797868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65480"/>
                    <a:ext cx="79786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CUCIÓN DEL PROGRA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38:12Z</dcterms:created>
  <dc:creator>jalvarez</dc:creator>
  <dc:description/>
  <dc:language>en-US</dc:language>
  <cp:lastModifiedBy>Victor Ramiro</cp:lastModifiedBy>
  <cp:lastPrinted>2005-01-12T14:41:26Z</cp:lastPrinted>
  <dcterms:modified xsi:type="dcterms:W3CDTF">2010-04-07T04:26:59Z</dcterms:modified>
  <cp:revision>57</cp:revision>
  <dc:subject/>
  <dc:title>Sin título de diapositiva</dc:title>
</cp:coreProperties>
</file>