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2.pct" ContentType="image/x-pict"/>
  <Override PartName="/ppt/media/image4.wmf" ContentType="image/x-wmf"/>
  <Override PartName="/ppt/media/image3.pct" ContentType="image/x-pict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9ED9B4-53C6-4CA4-956F-2CFB74301B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137DB7-A13D-4340-8FB6-C6EAA1CFDB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FF27D0-12B3-4416-8A1A-E1FA849A98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9C3-DC5F-4E48-B80D-54ECC23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A88-26BC-41A1-8E5A-EA124639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DFD-0374-42F6-B5DD-EABA88D6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DE5-5E5A-48CC-A09E-57084BB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027D-2B87-445E-991E-8E4C78C3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6397-E556-44B1-AD1B-133DD925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4854-8654-4A63-8DF4-020FC13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D28-EECE-43C5-A653-C4275196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529C-1BFE-4D50-B223-C3E4A8F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FED-FB73-4158-A01C-ACADF40B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8A3-71A6-43E9-B5E8-C814E4A9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CF6-27A5-4CDF-99A6-0E263298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304-DDD1-45AF-B0E2-F7849AF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6EBD-6B9A-495D-A8EC-361E403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5E7E-7BE4-400C-9AB5-FAEECC4A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BEC-57C8-43A6-810B-5793CACA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CE2-2670-46D9-95B4-44D56342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C52A3-4714-4BDF-89E8-144B0494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3E8D2-A559-43A8-88CE-504ED18C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A27DC-D8F9-4A2A-BB7D-83250145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771AA-5D61-4900-AAD3-FE153A0F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673DB-A6A3-49D9-8583-56455DD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152-DEDB-45F0-9DA9-B218DA9B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19163-B611-4BD8-A89A-B9549E13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FCDAE-D3C0-4F50-A372-EBCAF704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7558F-02DF-4495-A445-5FF424D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1E1D-FF74-4C28-BBB2-3564CFC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F3515-504F-4A2B-A983-9540A0C2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58CC3-A7A7-48F0-9AA9-E65317DD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89775-70F7-4A9D-A3DC-A76880AB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293A-18D0-4154-A386-F33E231E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4D78-EE3D-4977-8956-87DE84C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C0A1-99E9-4EF1-8E6B-329773C3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A29-95BE-4053-9F9A-DF56C90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E1F2-A333-43CD-894F-A724A36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4135-D351-459C-86AD-6E732574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0F95-5A5E-4BD9-B00F-86F1465B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6AA5-5C10-4B1B-B8BC-15C9954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4267-27F3-4DF6-9FA3-B8058E6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3840-FF74-4203-92F3-4BCFE0F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8572-EBE0-4980-884D-E14EECC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4CC5-192C-441D-AD94-E9565BD8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70E2-D747-48CE-BC57-E9E703B1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036AE-8377-4177-A717-03BAA019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EF8-F7F9-476B-92DD-F031BA91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17C33-7C78-47C5-8C5D-900B7763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61A89-E2FA-44C9-A218-6729900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4F244-3186-47D2-A04D-39842B5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7B5B0-1BF4-4377-8F2E-367CF98C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D0653-E4DE-46A7-BFC0-330D31D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DF2C2-50C4-4305-AF64-C51DE03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8347B-AA42-4DBD-BC74-D1C5F88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289B0-A41A-47E9-B59C-014F94B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3D0A1-A3D5-4E18-B3C2-0C1C6EDA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284D4-6D8A-4284-95C9-600B132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22C-CC71-45BC-A3D0-68C73A6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5EA77-A917-4413-9C8E-66994AD0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95299-012C-49DF-BD43-6A4A7F3D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4E98C-2145-4370-AF8A-3E9CA77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0743A-9376-425C-9E55-0488BD10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DABA5-B09E-4831-AA94-12B45AA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ADA08-77DE-44AE-8098-A6F28855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44553-B29F-4616-8FDE-B781F64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D26D7-B242-461F-B3C2-B67D9AB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EA0D9-7010-428C-978F-C868D899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0E1D3-4E8D-47A0-A41D-C15F804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042-4289-416B-A330-3BA9006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B9B60-FBC5-4504-832B-7E251BA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F5F2C-DE00-4748-85FC-087A43F5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F2052-42D9-47D9-8585-AB77839C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F872F-14C6-427D-9897-2ACDDA80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4DD0B-211F-4527-9126-9222E1F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4EE60-BDF5-46AD-AAC4-0984351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25F45-5173-4113-B2B6-BF4F759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16C78-021F-43FA-B246-1474BB7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C4DF6-CA9D-40C0-8213-7934036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B3BF3-CA29-4256-B996-C1B3AF5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CF6-DF05-48EA-ABC7-A9EB93D8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03891-C5C9-4496-A277-3B9EE72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26034-6ACE-49EC-8DD5-26FE941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E16EC-07A7-4261-B271-E954693F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3B4E1-5F42-483C-A323-C3E3CD6D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8AC63-8329-4681-A59D-5E595015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7176-3039-4DD6-8B5A-502761A7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A62F-5497-4525-B4E6-FB57322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626A1-0AC6-4E54-96FC-5D380D04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96D2D-0946-49C3-92FD-D90D577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EDBB-6CB5-40CF-8DA4-B9B2AFF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544-392A-49C2-A604-4632135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5373-A23F-46D6-AFB1-BF4FC8ED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E79D3-5430-4C6E-AD44-C52F5F8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5FA2-6CB1-40F7-95F4-440D2DF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DA73-09B0-4BC6-A2AB-760E4DC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13B96-2981-498E-B1B8-B2475E5D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EB41-4796-4342-BD0C-4A76E3C7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DEAD5-B7CC-433A-A601-58266122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619-9A38-4689-8EBE-78916F2673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7137-B0D7-42D8-9DDA-0EA0E481EF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89E-6B05-46F2-ADC9-5871A7FF8A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AD8-6C3E-439D-A5E2-C5464594A4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1C8-09FE-48C0-A8AE-8059172AF4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794C-81A0-4BAB-AAF9-F852340ED9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528-3442-428E-ABE7-1ACE3DF7D5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42C2-1CB9-4739-B360-25CBDD2AF3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92160" y="2000160"/>
          <a:ext cx="7526520" cy="30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000160"/>
                    <a:ext cx="75265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5"/>
          <p:cNvSpPr/>
          <p:nvPr/>
        </p:nvSpPr>
        <p:spPr>
          <a:xfrm>
            <a:off x="331920" y="2685960"/>
            <a:ext cx="8202600" cy="31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04880" y="1362240"/>
          <a:ext cx="7978680" cy="44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62240"/>
                    <a:ext cx="79786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704880" y="2265480"/>
          <a:ext cx="797868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65480"/>
                    <a:ext cx="79786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CUCIÓN DEL PROGRA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38:12Z</dcterms:created>
  <dc:creator>jalvarez</dc:creator>
  <dc:description/>
  <dc:language>en-US</dc:language>
  <cp:lastModifiedBy>Victor Ramiro</cp:lastModifiedBy>
  <cp:lastPrinted>2005-01-12T14:41:26Z</cp:lastPrinted>
  <dcterms:modified xsi:type="dcterms:W3CDTF">2010-04-07T04:26:59Z</dcterms:modified>
  <cp:revision>57</cp:revision>
  <dc:subject/>
  <dc:title>Sin título de diapositiva</dc:title>
</cp:coreProperties>
</file>