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ct" ContentType="image/x-pict"/>
  <Override PartName="/ppt/media/image2.pct" ContentType="image/x-pict"/>
  <Override PartName="/ppt/media/image4.wmf" ContentType="image/x-wmf"/>
  <Override PartName="/ppt/media/image3.pct" ContentType="image/x-pict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B65E54-9785-4767-AADA-1A9F0BF000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D90168-F825-4182-B193-2A34B080D5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88F414-3EED-40FA-80C4-8D3FDED4D7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F09-000C-42F8-8AB8-6F9FA80A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339-A25A-4264-948F-B72544F2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79B-4CD2-425B-9421-1BC9930A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891-B484-4253-9C28-88756268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5CAF-CA89-42E0-9142-A248A101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3933-6F4B-4BC3-B311-3E3AF0E9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BCBC-7445-4EC1-947C-B58C4DD1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8C83-597C-48CA-A3BA-D7FE6D11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A4F6-B25F-40FB-9FDD-4AC9CE29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A69A-4AF4-4C07-84A9-707746D6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2833-FE9E-4E36-A748-D0A747B2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DCD-598C-41AA-87DB-E726D08B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6D21-A606-4417-B803-AD644BD1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3EAA-3D82-4D31-8810-E9A677D3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70B8-7C52-4E00-B9E1-B8600254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3C9B-B001-40EA-B615-0789B22E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B0E1-F892-4735-8A50-9102566D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547C1-6A06-4BC1-9110-27C2E549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4951C-A460-40BB-8AE7-DD40D644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95353-DB7D-4FAD-9BD4-F6E0ECBD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4351F-C3C4-41B0-A0FD-016B6B0F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86505-517F-45DE-A0EA-2165186B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281-FE59-4696-B125-9D35423F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42337-B4A7-437A-BEB7-6EDCB9F4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959A0-1781-4446-B730-59416D1B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756C1-9A88-46BA-BEDA-6741839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6F314-7824-4F99-A16A-3C522644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D125A-CC70-453B-999B-90C8092C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1BFF0-C138-4EEB-B7A9-4A21F56C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59618-1F5C-4A5D-864B-F86BBFDE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255C9-B56E-4809-99F3-0232B71A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A325-FC0A-43A2-9377-898332CC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37A2E-9DE9-44A7-9E08-13283ADF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208-A84C-4FB0-8319-D673D5F0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A7D17-1D43-4E5E-B61A-90C76DD9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4BE7-0872-471A-8945-76B70F0F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D491F-1E9A-4FBA-B201-03BC4469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5A80-A3ED-4EE7-8B12-D83B6860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D4CBF-E38E-4C1A-9B23-4A1FE124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4FFE-8539-4601-B7FA-AADEDA9F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10AB-C1D4-4A60-AA92-ED417CCA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9A7CE-5DA1-4200-B207-03E1EE4E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287B-2556-4D96-984F-8AF43B69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14977-F5E8-454A-96FB-3AAC70B1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B7A-465B-43CC-B2CE-26ED5956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FC39F-700D-4384-9456-1F10B794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37DB3-ECAC-4FEE-8BA3-99FFA788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19D05-909B-48CE-93D4-9F8AAB5E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3F59C-6945-4368-A212-8E40AD23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0BD4F-3CE4-4F81-9E09-CE084629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157EC-3238-43AB-9DE8-9DD5B0DF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F8451-C1DA-4387-8518-540D340B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C599E-6A1A-40A5-A734-76085FB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04455-38FE-437E-9176-44C7E72D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A5E80-EEA8-4B62-9845-88C3AF9D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5D1-2F17-4E8B-8EC5-D2F2655D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68CED-5EC5-4E0B-A4A3-7056ED95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97DC6-9BE7-4A48-9C4F-8A8E6028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8B033B-900F-44AC-AF26-3593BF00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DA93C-73D7-430F-BBD7-AA30BDAE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9F146-12DB-4D3F-8247-5B7EB9AB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93301-C15F-4FD7-B909-9BE3D4B9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1B651-D48E-4B16-AF42-CA47FA56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F291E-5B0C-45EB-83E7-7EC30B40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D0ABD-ADE2-4661-9FB5-CA2F51D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99CED-E44A-4AF1-85B1-4A021884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F2C-122A-4AD9-B483-29BD399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9EB43-7794-429C-94A0-B490D480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6CC68-40E1-4D1D-A0EE-CCDDCBFB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E0C9A5-FA9F-4AE0-949D-E451BD7B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CAEA62-9E37-4A88-BE8A-BED93405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E8089-CD0A-4C01-B2C3-EDDD1C77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B597B-4765-4C44-9072-FE39198C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59C60-53FC-4836-9C73-C521BEE3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7041A6-BE83-4F96-A294-D4754CB9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024CE-6385-4455-97EE-0C6B37E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324B0-9621-40F1-8E8C-9918BCA7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819-8438-430B-A6D6-39C23EB2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2C981-2F39-4215-AB14-3E6CEF0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19F85E-86B3-46F2-A585-40F69AFB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B2450-2A84-4ADD-AACF-4F21A998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1F352-509F-4825-97F4-5256329D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26B34-A4B9-4BB6-B194-064244E0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0C1C5-12E9-4AB3-99CD-F15D8C91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5C46A-1484-4D4D-A375-55E3754D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B67C2-8660-4070-9AD1-9FBA1D4B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75DCE-E573-40A0-B3EF-CDFA2276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5539F-3CEF-48BD-AC52-1DC08155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5CE-A9C1-41B0-9F1B-577BD40A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973F5-CDCB-42AE-8870-84D1C1AC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80D7F-90DB-413B-8218-ACDACAB4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D3AF5-8318-48F5-BFD5-0943B65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6E44A-E417-4C1C-BAF4-95EBD307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9AA5B-8300-4A6B-ACAD-BC538936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A48E5-1C04-4CE9-B51A-DC9597BC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0E10E-C942-41FF-84C3-8A4F2F00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20FE-0DE7-49E5-A299-267E030628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FEDE-3860-4932-A735-F8CC6F84EE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A735-158F-4919-A59C-6DA370CE8D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6EBC-4586-4401-9375-1B46C13F7A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B30A-8264-49DF-B334-AD7F21EFE5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FC74-A46D-453E-B5A6-4BB0253830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C2A7-0E00-4E84-8F12-6671D54E67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F3C6-855D-4545-BF08-2826123325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992160" y="2000160"/>
          <a:ext cx="7526520" cy="306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2000160"/>
                    <a:ext cx="752652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5"/>
          <p:cNvSpPr/>
          <p:nvPr/>
        </p:nvSpPr>
        <p:spPr>
          <a:xfrm>
            <a:off x="331920" y="2685960"/>
            <a:ext cx="8202600" cy="31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1187280" y="806400"/>
          <a:ext cx="6624720" cy="6066000"/>
        </p:xfrm>
        <a:graphic>
          <a:graphicData uri="http://schemas.openxmlformats.org/drawingml/2006/table">
            <a:tbl>
              <a:tblPr/>
              <a:tblGrid>
                <a:gridCol w="619200"/>
                <a:gridCol w="4205520"/>
                <a:gridCol w="180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704880" y="1362240"/>
          <a:ext cx="7978680" cy="44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362240"/>
                    <a:ext cx="797868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704880" y="2265480"/>
          <a:ext cx="797868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265480"/>
                    <a:ext cx="797868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CUCIÓN DEL PROGRAM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3:38:12Z</dcterms:created>
  <dc:creator>jalvarez</dc:creator>
  <dc:description/>
  <dc:language>en-US</dc:language>
  <cp:lastModifiedBy>Victor Ramiro</cp:lastModifiedBy>
  <cp:lastPrinted>2005-01-12T14:41:26Z</cp:lastPrinted>
  <dcterms:modified xsi:type="dcterms:W3CDTF">2010-04-07T04:26:59Z</dcterms:modified>
  <cp:revision>57</cp:revision>
  <dc:subject/>
  <dc:title>Sin título de diapositiva</dc:title>
</cp:coreProperties>
</file>