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2.pct" ContentType="image/x-pict"/>
  <Override PartName="/ppt/media/image4.wmf" ContentType="image/x-wmf"/>
  <Override PartName="/ppt/media/image3.pct" ContentType="image/x-pict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109FC6-20D1-47B0-AD47-0AF39BA42F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F473B5-7F27-401C-BFA4-E191AAA314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9C3A56-658B-4F33-BAED-E5B592BFB5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F56-EC6E-4197-8709-EFB75266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4F2-34C9-441A-AB1A-E87BA21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2B-3BC0-4A65-9175-BFFAAFF7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A5C-FACF-4944-9F85-5FE7E49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7F6-3535-4F27-AA0C-B08B7454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D167-C4BB-432B-A94D-823CAD8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F84A-A602-49A5-B047-40D5B3B1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1E1-02C7-4E72-B08B-314A2E58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AFA-6066-401B-ACEA-1C92FD2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3403-F24A-4847-B870-05835258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3FF1-B481-4A77-BF39-FAD47C2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A07-EE8D-4E92-A722-1BFB398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A7B5-06BE-4D3E-AB9E-B7F498C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0F2F-2C53-4504-A719-99D3248B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7D48-6139-47C0-A202-6979510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E93-D78B-4A6E-9D89-798C9C71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B52-FF46-4415-BBA3-966CFACD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40AC7-20EB-4B48-A52E-8D945C3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CCFEA-9469-4542-931B-01C5846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C0745-EAA1-4727-A09D-5360035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D250C-EDF2-4B4D-A9D5-3A14A641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F3C41-5C14-4B12-82FD-E0E25A4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955-41D1-4F1A-BD7C-70B2089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9EA86-F5E4-4018-951E-3D2E8A4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07918-14D6-4586-886E-699D23C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5AD57-F8BA-4102-B9B1-727D161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CC1F0-E478-4C29-B949-186823B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442CA-BCB5-4E04-919C-A14269F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3D1F4-4CC4-45C2-9902-FDE0457B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C84A1-6A05-4FD1-8768-4A8B0FAF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98DC-C6BC-4AAA-9960-4CFC7EEB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E081-97F3-4E80-8454-04C15B0D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B90B-EE0D-43B6-B8C6-BFDE5CC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512-D7C3-47C2-A4D7-6236FF0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6A49-0C0F-40BE-8171-73831AD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8261-DA56-45E6-A141-5389740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80BE-0994-4232-AFED-30E7E1E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E534-B7C7-4FE8-8381-40D1B676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EB4F-75F5-4B5F-B2FF-21FA7AC5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691C-BF3A-4017-8F2B-D0D744D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0735-4AA1-4319-8567-1579FE4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DC34-ADCA-4E9A-8B86-DBE6324E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D18C-6CF9-4DF0-A9B0-8980F1FE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3A924-78EC-447B-91B4-202A1F6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484-B158-4025-A694-B2EBA22A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65E2E-C891-4FF7-BCD9-0590BF2C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F06C1-EAAF-417D-B065-71798FB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B55D7-B8EF-4A03-9897-2AEBE4A5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C9153-EDD5-407F-92F7-6528736B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27613-23C8-4306-9604-65D000C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1CBBE-9F6C-4325-A2FE-BACBA6D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88618-4AC5-4340-A318-B5CC354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5734E-BBCC-4E01-92C8-07366BF2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0558C-A746-489C-A4F8-4B43DD9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E11A9-DB70-45C8-8A6C-8659BCE0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963-7B34-4F8C-9CB4-5319C638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162DE-4B12-4602-82F6-1F116C49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56EFC-E8E5-45AC-9C1F-936A81D1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7C3D1-9889-497F-A63D-84B3ADB0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C681B-3A02-4525-86A1-FFA5952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D6B7C-645E-4667-B751-3BC2EF6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A63AC-B91B-4B69-B0EF-AFF4CB93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2B1B6-C2B7-45B5-8DCE-CB2456E2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AD49E-0DBC-418C-9DDC-C57897EC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97DF7-3FFA-4728-87AF-F2151D6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B12D8-5A11-408E-A3DD-8F834A8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778-D3F2-4209-891A-22F5121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32FAB-55B2-4DE5-B5E0-0EAA69B3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F7DC3-028E-40FC-B02C-4D4ED6EE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9ED1F-2B6A-4F14-A97A-882C3F08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14104-01ED-484E-B29D-8FFAF3D8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1C877-6FA5-456A-B256-D67F2CD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B5465-EC14-4BF0-AA3D-642F605F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871A3-16B7-4109-B2F6-EB2083B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16E06-A4E3-4452-9072-E080A2C4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1B9CD-014A-44A4-92DE-658BD233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00D88-A3DA-4837-B5B6-E1E14E8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CA0-38A9-48A5-B1C9-3A67DD1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C09CA4-DE42-4317-97C6-0CE8BEDB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BC95F-B687-42D1-991C-3DCFDDB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8F3D7-7B6B-4BAE-B984-843307BE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97675-E497-4B07-9921-41E6AB4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11A7B-04FE-44FD-AFAC-EF6D0874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B9D5-4636-4C40-B9D7-793A19E3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290A-A5C7-4CF3-9C96-E7CA95E6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E335-F6A2-4EE9-9C45-76AC2E6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2EBA-43B5-4954-B9DB-B37DC560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E91D2-F16C-487F-833D-65E8CD8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25D-E3C5-465A-A2BB-F73717B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E8A35-D54F-4989-AA52-0731FD4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4C623-283F-48AA-839C-2F831FCC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720F-FB71-4BBF-9321-4581003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DF261-D7F4-437F-831E-5C47B8F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1EC7-68D4-4AF2-B074-21F23E74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DF1C-D321-45AB-9C02-6BA423DB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C14AD-DFFE-48DB-83DB-89D332FF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447-E5B4-4F3A-907B-3CBBFA32D6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732-51FE-445E-A8ED-58D1F7B12A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0FD-4931-44B7-A616-599631A64F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249C-44E8-48FD-A56A-BF3C2A0F80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176-BC08-467A-8A14-B305109203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DC1-3B74-48EB-9B39-5E1B6E5CB0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879-0141-4048-8B01-B57E76A81F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73C6-210C-49F7-88CC-A296E2122B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92160" y="2000160"/>
          <a:ext cx="7526520" cy="30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000160"/>
                    <a:ext cx="75265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5"/>
          <p:cNvSpPr/>
          <p:nvPr/>
        </p:nvSpPr>
        <p:spPr>
          <a:xfrm>
            <a:off x="331920" y="2685960"/>
            <a:ext cx="8202600" cy="31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04880" y="1362240"/>
          <a:ext cx="7978680" cy="44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62240"/>
                    <a:ext cx="79786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704880" y="2265480"/>
          <a:ext cx="797868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65480"/>
                    <a:ext cx="79786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CUCIÓN DEL PROGRA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38:12Z</dcterms:created>
  <dc:creator>jalvarez</dc:creator>
  <dc:description/>
  <dc:language>en-US</dc:language>
  <cp:lastModifiedBy>Victor Ramiro</cp:lastModifiedBy>
  <cp:lastPrinted>2005-01-12T14:41:26Z</cp:lastPrinted>
  <dcterms:modified xsi:type="dcterms:W3CDTF">2010-04-07T04:26:59Z</dcterms:modified>
  <cp:revision>57</cp:revision>
  <dc:subject/>
  <dc:title>Sin título de diapositiva</dc:title>
</cp:coreProperties>
</file>