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ct" ContentType="image/x-pict"/>
  <Override PartName="/ppt/media/image3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859C-24DD-4C16-9873-0589EA8A723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0A70-37A4-45DF-82DA-2D3F6E33AD8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968C-DF1E-4CD6-969D-FCCA8CD1204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BC6E-CF5D-45BC-928E-9D4C8B11D13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F240-6F32-477D-B5E8-6C64559EE5D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5CB-4451-4794-A959-11C3F847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6B0-5B6B-4BD3-9188-EAB8687F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8DB-6DC2-458E-A6B0-32A9A09A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AE8-7A63-4066-9846-DB624D93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0D17-7127-4AC9-B14D-0EDB2DC1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312B-367A-426C-AA75-9107FD85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83AD-1981-4B07-BFD0-76F7F6A7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662D-4255-4CCE-8E37-9D895196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6BC5-2812-452D-8DFD-CA545670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0192-5084-4021-973D-6020E58E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4549-04B4-4148-8BA9-44432D6D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EDB-F8D4-495C-B7A6-01F7135D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80A7-D397-488E-944C-A94E5290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1B8E-807D-4863-B832-9A563ED5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3E24-208A-4D29-AAED-996B5F58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422B-ED1B-4400-AF23-79F7DDCD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3400-63B2-4C4D-B0FC-8DF95DBA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76796-6C45-4E62-AB03-A31E54DF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4F49F-E4FF-4CFD-950E-5BE48E2E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DE591-B0E5-4838-B130-1CD8EC38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F5B97-BA67-4633-809D-A8BB5B1D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A3F97-9BFB-4D3A-8A6A-7371BD49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6C4-F111-4EAC-B30A-90852CB8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FD578-0CFD-474C-93F7-CD50E9D1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14752-B55B-4539-9A95-61CE7F86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0F568-12F4-43F4-A5C8-6FF4203F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2D31B4-FBE4-4572-8244-96275DDF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F2BE9-2364-4DC5-B9D6-A0832482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44722-FBF6-48DC-939B-03023862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86C3B-C188-4173-AF1A-B998861B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AB8A7-91B5-4D47-A02E-F323B19B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51685-2C50-4BA4-AD38-608F4D08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846C5-6F1E-4940-937D-1B89C0FB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D63-7584-4878-A8FE-9FB216EA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9740F-1D74-4C2E-9CEF-675F9591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4B679-7AF2-40F1-B620-60B486BE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B43A7-F945-4010-9E6E-86699EB2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99467-5E47-4475-8282-7CDC02C8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88A27-4613-4207-8A21-6F013D1C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4367B-492F-4957-8881-36E60A0F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36C73-07EB-440E-AD9E-DCBDFA01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A163F-2C9B-4AD1-BD38-BDC34243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44910-F760-4CDA-A001-4C036447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FAB5CC-61CD-4BC7-A563-DE8527DA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BF8-481D-4575-8974-0EAD72E1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BE68D-5331-4FB5-9ABE-7B63297C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9A75E-5585-4453-B646-9EDC9815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3D87A1-5F2C-41B0-8170-F902EF3F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F4AB72-50D5-4758-8945-B553E9E3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6AEAE-D9FF-4839-B582-3B78D341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C5B7E0-D035-49D9-AC40-0DC777A1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F08F7-243D-4CE1-A7A8-5A3AEEA5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1B89E-495F-413A-948F-B0DE1840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2F887B-03B1-4D14-AF97-188D117A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ACD5F-ED51-4213-B462-2D26BE1E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9BAB-63F1-4CE2-A280-E99E862B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B8D9A-55DA-4F5C-A452-5D00CCB1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693A98-E8CC-450E-8795-A950C85D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170A79-917B-4327-A88D-1FB99236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8A524-751E-4F9A-B896-00C1986E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629250-F2A1-44DD-9F57-A82BDC5E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27486F-BF3F-42E2-A74D-10DCF4FF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D0AC2E-9205-4542-BC92-42723747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B67236-C7BB-40D3-AE12-F3735A86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622D7-DB87-43D9-BDDD-CBAB5819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B3B1D0-3B0A-465B-A322-B0151805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693-E745-47BF-BA32-978820FB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820300-868F-4E06-89B6-866D3EC7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D63CF5-6EF7-4A0F-98E9-6AF49CA5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9969AD-F27A-4A94-8AFF-27A321AF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27B784-300E-4220-A4D7-9970E920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89DF7B-2D16-40D8-B9DC-9778F4A5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9687B1-79F7-4788-9CA7-D6C04754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A5BC81-725C-4482-9C26-CB0903E7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3B0A5-9F42-462E-905E-81C6E3A9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97F49E-DE97-4AD8-997D-C5F2E544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ABE5F-525D-4BB9-9FE5-FD32EC25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B75-7D49-4896-B811-B77C460A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EC25FD-12B1-411F-8CE8-3CC20E9F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EA2311-3D28-4AB8-A9C7-74C7580F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9608D-001A-4955-A90B-2CE51C20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A1B6E6-9553-4833-A543-81298500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FCA47-2751-4EB2-B837-495686E6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5FF-0FB4-42B9-9C9F-20A8BC29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C7A8-9DFD-4F12-AAAD-EE30683360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90AC-EEBA-4934-ABBD-F6EC08C5C1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91CF-3F68-46AC-AEDC-E265416D9B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91B6-71AB-41A3-9F9A-0DEC0A5874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0832-7C5B-40BF-938C-34CA69E414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05C8-C8B0-40A4-99F9-9C37229FED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D63F-3A36-44BA-9279-4518E8510F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831960" y="2255760"/>
          <a:ext cx="7781760" cy="265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2255760"/>
                    <a:ext cx="77817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425520" y="345960"/>
          <a:ext cx="8345520" cy="689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5960"/>
                    <a:ext cx="8345520" cy="689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506520" y="407880"/>
          <a:ext cx="8184960" cy="65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07880"/>
                    <a:ext cx="818496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558720" y="399960"/>
          <a:ext cx="8221680" cy="637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399960"/>
                    <a:ext cx="822168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1020600" y="754200"/>
          <a:ext cx="7209000" cy="52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754200"/>
                    <a:ext cx="7209000" cy="52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835200" y="496800"/>
          <a:ext cx="7775280" cy="61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496800"/>
                    <a:ext cx="777528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5"/>
          <p:cNvSpPr/>
          <p:nvPr/>
        </p:nvSpPr>
        <p:spPr>
          <a:xfrm>
            <a:off x="468360" y="292680"/>
            <a:ext cx="8424720" cy="64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2.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cribir una función que reciba dos enteros y entregue el mayor de los dos (sin usar Math.max). Ej: int m = mayor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1055520" y="684360"/>
          <a:ext cx="767088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684360"/>
                    <a:ext cx="767088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434880" y="274680"/>
          <a:ext cx="798984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74680"/>
                    <a:ext cx="798984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Line 8"/>
          <p:cNvSpPr/>
          <p:nvPr/>
        </p:nvSpPr>
        <p:spPr>
          <a:xfrm>
            <a:off x="6227640" y="4076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9"/>
          <p:cNvSpPr/>
          <p:nvPr/>
        </p:nvSpPr>
        <p:spPr>
          <a:xfrm flipH="1">
            <a:off x="3850920" y="6308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Victor Ramiro</cp:lastModifiedBy>
  <cp:lastPrinted>2006-03-17T17:08:51Z</cp:lastPrinted>
  <dcterms:modified xsi:type="dcterms:W3CDTF">2010-03-31T03:26:30Z</dcterms:modified>
  <cp:revision>40</cp:revision>
  <dc:subject/>
  <dc:title>Sin título de diapositiva</dc:title>
</cp:coreProperties>
</file>