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3524-AFB6-4546-91D4-2E063FC8C3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21D0-DBB7-4EBB-8692-10DDFB0B2A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03F8-0EE0-4D8D-8C2D-B9DF7EEAB1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C7CE-88DD-4438-AC1C-5190E787B5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2C9D-174A-485F-80AC-F81211F982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46B-A36C-41B4-A008-17CF7F07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4CF-3CFE-45C8-8EAC-E73A24B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BC9-8A81-4265-A9ED-A4FFBC35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14A-5852-4FA1-99A2-F23C8889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9208-938C-4E39-9927-59C5BAEE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579D-2B96-4F9C-9E3E-FF91DCA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D6FB-2769-4570-A8D8-835D8A52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0BC4-01F8-472A-AFEA-4557D5A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AC72-E27E-41A9-BED5-122B2039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98A5-56F6-45DB-9797-7DF45D0D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3C01-7A34-4B4D-8082-BAEA7A7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E9B-3464-4A63-AF06-2539E419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0851-3782-47F1-ADA6-C63A4D4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F43A-7583-40E7-8C61-7248E27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09BF-3AC8-43AA-BB37-42E97038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BDE6-F44E-4D36-86A4-00C4560B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A001-F7A8-4AE1-8038-EB4AD472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FF5D8-A895-4DDD-9A1D-9030D166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1F66C-AC7D-418E-ADE0-1E841DE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22C85-2EA3-4E0F-A5DD-E1B7B7F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06079-BF49-4941-B6B5-B099AC85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53B7F-26F0-4E0D-A391-F7320728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86A-CC57-46B5-948A-14D45E9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C9D2E-3682-4623-B750-3328420E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B0177-BB9C-4957-B34A-043EF4F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FBACE-ADE4-42E5-85E6-16EB2947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7E7CD-3DE9-44C5-93C1-2E5FF89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F1D28-19D6-4C25-9C8B-939C62A9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C2A56-7B2E-4E77-B270-C26C25D7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925CE-C7DD-45EC-9984-E3A28A05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4283-2F75-4215-AA51-FF945BE9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205D-6A64-4F0E-92DE-BA670F69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1879-69E7-479A-9416-0E7B475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503-A164-4712-8800-0A1A2094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8301-8957-48DD-A68E-BA2D64D5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E973-A9B8-4B14-BB14-8FCD181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434C8-76AB-45C9-9A16-5FAAE64E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CF7E-4659-4800-A896-F70C99E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4054-CFFA-425E-B492-5662C0CD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F269-0645-44AB-95AB-FF36DFF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43916-86C9-43AE-80B9-F93816FC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F8D0-C04D-490B-A8C1-27F65840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2281-88D1-4AA0-A358-2F249FA6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720A3-1E0D-4F8B-8C95-34CD1E9E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9CC-664D-4BAE-845D-1C60D21D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C1913-4EB7-4F52-A81D-CDFD747E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B100A-6B42-4058-9137-B48E033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35723-3F4A-4318-BB91-48A489FA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426F7-F2B9-4D23-AF99-AF8F5C6E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C927A-D686-4198-89F6-2F5248A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AF98F-35B5-4EF2-8BCC-9482DA9D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44F1C-E589-4DCA-A814-A879DBD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CC423-B8A2-41E6-A391-8F93866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8924D-8ABE-4678-B8AE-00C78E59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30D65-829A-413B-977E-390C15A5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81C-F116-4E6D-AFAC-2332C68E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EBFD1-DEA1-4845-9D07-78604853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7D6A3-1F05-45D7-9F68-0BF0A7F1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3FFF4-E295-456E-B03A-E5F398B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C85E4-0CCB-4DA0-9D52-4406EA7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2BF72-05D2-4C66-834B-B08A6C2B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48038-8333-45EF-94FC-20CF2D0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2B0AE-60F9-4A89-8651-E68949A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8B73E-9213-4D2A-A400-6AFB4DCC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D6454-75AE-43F1-A9B5-1BE2607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94D49-AD4F-4421-84DD-C95A987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BFE-BF55-44A2-AE01-BC29E12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59441-ACB5-4FE6-A3B3-44FA9831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0A96B-19B9-4182-B52F-6D6EE8FE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F87A1-E48A-42BE-A09C-980AF97B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E8347-B455-4274-A701-DC0C01E1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A1C89-241A-47A5-8A32-758100B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C040A-AA5D-43BB-9A9C-C1AF861F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F2774-83A0-4E14-B3EF-43825556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4BD49-9060-4DEE-8D63-A8B84263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E45E61-8C4F-42A6-8ACC-7BC4D35B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08A2C-9C25-4FF9-87AB-A7579DC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10F-56B1-4B58-8B65-25A08D00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DD2C6-CC41-4CC5-8BFD-6F515A5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8B3E3-2056-4839-838D-559BDDD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11B40-17F7-4019-805D-F130621B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C8A26-4E28-4A31-86C4-0764D950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291DD-B5A1-466D-B449-A3F25C09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041-13E5-4B28-AC05-056B0B0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7CB7-DCBC-43BF-8C99-27D6573BFE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69B6-557E-4DB4-ABD5-9DD7F15C3E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9C71-BF6B-4B4B-BEC7-A0AD3C9FB2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30DD-B53B-4DFB-AED7-B33FF4EA2C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45AB-2189-45A0-ABA7-9954E00C34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BC2A-9696-4AD1-9082-1127A8DE6D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3CA5-DE08-4864-9AFE-7637DDB4D1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1960" y="2255760"/>
          <a:ext cx="778176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2255760"/>
                    <a:ext cx="7781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Victor Ramiro</cp:lastModifiedBy>
  <cp:lastPrinted>2006-03-17T17:08:51Z</cp:lastPrinted>
  <dcterms:modified xsi:type="dcterms:W3CDTF">2010-03-31T03:26:30Z</dcterms:modified>
  <cp:revision>40</cp:revision>
  <dc:subject/>
  <dc:title>Sin título de diapositiva</dc:title>
</cp:coreProperties>
</file>