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ct" ContentType="image/x-pict"/>
  <Override PartName="/ppt/media/image3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FA57-4A89-422A-865D-C2774853FE2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5DF3-F18C-459D-B9D3-2C6FBF42F02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1D73-D0C9-447A-8905-6399D088291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A481-47B6-4906-82C4-C70B4D3F196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4E11-07A5-4186-B6CD-EC5D54DE1FA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4F5-1BEF-476C-B547-E1893EDC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4B43-CB4D-4100-9BE0-E9E567B5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D6E-2D4B-4911-8A42-D9DD3E97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503D-B5CA-49C2-AE4E-9F21918F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ED3B-08E6-4CDD-BA7D-C5577353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88D0-166B-4791-BC0E-599B83D7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8259-5CC9-4E33-878B-B429C359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9E78-7279-488B-8607-F5315A7E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4903-0870-466E-8BCA-86A3CA0C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65DA-BA49-4279-BA76-119C5C01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4E82-3089-4204-9E6F-3F5B9C56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F85-CCF1-454B-BFC5-50B435D7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6906-E458-4310-AB44-496380E0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1657-B6AA-40E0-B82A-29B78C66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18DC-5359-416C-BBFD-79E8D661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76DA-1174-444E-B845-A37E145D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3560-7E9A-447D-912A-D5201F65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5C617D-67DE-4717-ACC0-5FC7F519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61D24-FA0A-4332-B4E2-3D33EE22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DA618-F497-4DB6-94DB-F2990EBC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68ABE-68A4-4456-A876-E05749A9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74D95-5470-427D-B1C4-886FD5E5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99F8-5475-4474-BA65-8D879E3D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F52AE-A6F2-43FE-8A21-3DEEB5A5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42E1A-67DF-429C-9F8D-5846E222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8BEE7-C107-48C3-8594-9E26C7C4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90512-E986-42AC-8AA5-21922DF1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08310-1B79-41BA-8142-BB05B547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1471C-37DA-401B-A711-05F25654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ACA7B-FE55-4247-9B7E-5941345B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319C9-2195-4DD1-BB21-FCE626A8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03188-8C23-4EB4-B7DE-A467F5DC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E7A3B-3718-4229-B117-1A88B7AD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D2C-7483-4B18-BF41-01654E15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1F8A4-5017-47A3-993F-297A222B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4E593-0BBC-4219-8415-05F66131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AF314-4AE1-42A9-AE49-6549EDEF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B0A88-F199-43BF-86F6-E5D37DA3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36685-0F48-468A-B63B-B6318B53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D8F99-7D9A-4F3D-B53C-F57B2C88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D9D11-286B-42B1-90B4-6030DDF2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136D4-3F10-40ED-A944-5F76B25D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D2187-42C9-4217-A77E-30F1FA4D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5FF984-8053-49D4-B17E-39EF7457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4BC-7508-4BD5-8EE4-4494C676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F70A94-8643-4430-A106-ED86DFEB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9BB58-5676-499D-BA3F-4C34E319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B300EC-EC40-4BB5-BEA1-7F795F1F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5E5955-F643-48F0-9D42-9A06F28B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205CC4-99BD-46E3-9586-988F1FBE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361F9-7B90-4943-9381-C6B58090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B6AE84-4F8A-4B80-9678-70BA1C25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E4316-AEF3-4B33-AFF1-33415681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4F732-E0D3-4367-9C26-D5771189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E72BA-BC42-48EB-98DB-9426AAF8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D76E-9803-4487-B313-1A7A4F96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DDE374-8614-4A90-89BB-978D3EA7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FF7F12-6178-40CE-94C2-4CE44CEC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83B16-B8F7-4719-9081-BAA3CCB8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04852-62D7-40B5-AF79-659533EF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7B3601-0133-4C9F-8B75-CF211979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DEEF2E-59BD-4084-A614-B0D9F16C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615D9-5962-4CD7-BD83-BFC73C0D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D9A1ED-F615-40A9-BDCE-164CFA46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E04E77-9E16-4673-BD66-13EBFDC9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662804-06DF-4ACA-8665-9A89434D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EFF8-1A3D-417C-8967-E793900D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ABDC27-2A04-4E33-BA52-B22A0A42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82220-D74F-48CC-8ECC-58B0C25B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90B83C-74AD-423C-BA8C-9D4F9FD0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3AA971-4939-42EE-98B9-B3171E2C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4864FD-7F70-4C9D-B6F5-D1FEACAE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A23A05-7249-41EA-8F58-1A6E5886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1F0327-9D77-4E5F-ADD5-0D76DEEC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FC1E6D-BF98-4917-847D-72B17FAA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D17F08-1F68-4BEF-9B89-E007E774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F3C6F8-69E7-4A80-AB3B-391C975E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8A5D-6D4F-4910-A527-59703C9E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A98BFD-7028-4E15-B812-4B5A61CC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EA2C79-4D7F-494A-964A-F6DDDC7C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475D2D-648F-4989-9467-E3A3EC78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059289-D7BE-4603-8C33-0764F810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125863-800C-49B5-978E-AAC1082E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466C-DEB9-45D5-82FC-0F503AD5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2148-BC2E-4E8A-A817-6389DC87A4F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287D-1CD6-412A-9F1F-11846100D4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A900-BBDD-4C23-A169-F46CA49DAF2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44E0-6B62-45F1-8441-78714BA7CF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CF6A-AC11-4118-9175-637EA46ECF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29A3-89C6-4C84-A214-F8B65BD361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E462-CA01-4C52-BDFD-476385E4DB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831960" y="2255760"/>
          <a:ext cx="7781760" cy="265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2255760"/>
                    <a:ext cx="77817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425520" y="345960"/>
          <a:ext cx="8345520" cy="689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5960"/>
                    <a:ext cx="8345520" cy="689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506520" y="407880"/>
          <a:ext cx="8184960" cy="65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07880"/>
                    <a:ext cx="8184960" cy="65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558720" y="399960"/>
          <a:ext cx="8221680" cy="637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399960"/>
                    <a:ext cx="822168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1020600" y="754200"/>
          <a:ext cx="7209000" cy="52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754200"/>
                    <a:ext cx="7209000" cy="52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698400" y="457200"/>
          <a:ext cx="794088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57200"/>
                    <a:ext cx="7940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601560" y="469800"/>
          <a:ext cx="833760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69800"/>
                    <a:ext cx="833760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709560" y="433440"/>
          <a:ext cx="784548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33440"/>
                    <a:ext cx="784548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638280" y="746280"/>
          <a:ext cx="8361360" cy="75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746280"/>
                    <a:ext cx="8361360" cy="75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835200" y="496800"/>
          <a:ext cx="7775280" cy="61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496800"/>
                    <a:ext cx="7775280" cy="61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5"/>
          <p:cNvSpPr/>
          <p:nvPr/>
        </p:nvSpPr>
        <p:spPr>
          <a:xfrm>
            <a:off x="468360" y="292680"/>
            <a:ext cx="8424720" cy="64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2.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cribir una función que reciba dos enteros y entregue el mayor de los dos (sin usar Math.max). Ej: int m = mayor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1055520" y="684360"/>
          <a:ext cx="767088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684360"/>
                    <a:ext cx="767088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434880" y="274680"/>
          <a:ext cx="798984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74680"/>
                    <a:ext cx="798984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Line 8"/>
          <p:cNvSpPr/>
          <p:nvPr/>
        </p:nvSpPr>
        <p:spPr>
          <a:xfrm>
            <a:off x="6227640" y="4076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9"/>
          <p:cNvSpPr/>
          <p:nvPr/>
        </p:nvSpPr>
        <p:spPr>
          <a:xfrm flipH="1">
            <a:off x="3850920" y="63086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Victor Ramiro</cp:lastModifiedBy>
  <cp:lastPrinted>2006-03-17T17:08:51Z</cp:lastPrinted>
  <dcterms:modified xsi:type="dcterms:W3CDTF">2010-03-31T03:26:30Z</dcterms:modified>
  <cp:revision>40</cp:revision>
  <dc:subject/>
  <dc:title>Sin título de diapositiva</dc:title>
</cp:coreProperties>
</file>