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ct" ContentType="image/x-pict"/>
  <Override PartName="/ppt/media/image3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41920" y="-36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938664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41920" y="938664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3225-77FC-4797-AAFA-1FB27485F2B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D089-7CE9-480F-8919-9DB71693043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689C-4BF2-4D83-8E92-8AF24245D16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9170-918D-4EC8-9883-B6CF9FD11E6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2759-C96D-4138-9AD1-027BF2F1620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6898-B288-413A-8386-208B4614C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C8BE-F289-4CD6-B122-3ECDD999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EC99-3ADA-4307-A09F-87BE1FADA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41B3-1146-4283-9EA8-F64DE34DE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215E-D683-467D-8B09-99EA0F1B6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B2A0-20D9-4E74-BF70-0468A0A7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E9D9-42BE-4764-8088-C5633003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9FB7-A725-4B96-9953-9F5700FA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C106-9341-42D5-BD64-7C94B472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9E9F-0D1F-4088-BCEA-6BAA2A53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EA2D-4BD5-46D2-99B5-34000E9D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F932-D313-418E-8553-B4A614CE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26A1-87CB-4863-9870-5ECEE144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4599-209C-42AC-A42B-05DBFC1D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724F-187A-4495-9F3C-856FF451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0DCC-D4CE-44B3-BF56-0874BE7A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94BF-6C31-4DB0-A1F9-ED307799E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E91E72-1D73-498B-A620-9695C8EBB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9A6BF2-8A2F-480C-B696-1B6F278D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1E6313-CFDB-4EF3-A819-D3D49A97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BCAA5C-5BD0-4B9F-958A-B81B399D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D68F2C-9CB5-42CB-ADFD-614AF239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E6AD-C6BB-4D45-8CBF-DF262B99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6379AA-952A-4544-B82A-958A51E0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779E28-7DB8-478E-957E-DD680BA0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577664-6315-4F6F-AFEC-E9F4C5A3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1F5C93-A3F1-4973-A20F-27CB9AB4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66573A-541D-4F15-8F7B-3B1464E3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D60C3F-D332-45B3-9859-37F7BA65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F43008-2F7D-45F2-9309-37002CBC9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337B3-63EC-4F2A-BE74-A3FAB0C6E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0D7A9-06A3-482D-A510-541581B4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C8536-2F58-4EC3-896C-7DF1132A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AFE5-7901-497B-AE96-4A485F63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635D7-8102-46F1-934E-968BDD24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989BA-63E8-4F63-9AC0-CC972EA6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F2889-9E5A-421A-B780-C8B34B17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616B2-CDE6-480F-BB01-F2292F61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3B063-5BD5-4F29-9B6C-1C6E7AB6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83D69-0985-44DD-80FC-DAB24D9B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6AFBF-3DDA-4D8D-8DFF-879FF887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E4666-800E-4C68-B9A2-CFDB4DDB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249F1-018C-4CFC-BE3E-629FB268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2F6BCB-5215-4F3D-830D-1E55FBF2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3C92-B8AE-4F40-9F69-699791A7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570CE7-20D4-4E8C-B539-1D473530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99D76C-3914-43CA-AB70-9E7C13D4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C1AB5A-D411-413E-B2A0-6D1D0AEB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ED85E4-17A4-45A0-9DF7-836FA89A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1C95BA-5E7F-42E9-B1D9-F2BAD0D0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5A7976-0462-421A-B099-3FB6B436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21574A-F1D1-45CF-87EC-D8C004FB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209D00-5952-40BE-8C61-6F27AC7A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308F2A-8C4C-4F05-B3C5-B0331771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B577DA-F115-4339-83A4-31BF8EAB4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8DFF-4A5C-40A4-8904-9F8E7EE1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B117C9-2600-46C9-896D-B35A86BA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7CE6CF-7180-4D14-81E2-D3C95BAB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8F3783-BCB2-42B0-9F07-881DC973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7B0DDD-7A75-46E3-8F77-CF2C864F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506B52-4B78-4DCE-BCF1-98E5D5DA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9090DD-2E77-484D-8ABA-0EB9E3AA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15DA9C-9547-4432-843E-E80F66CD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747029-85D2-444A-9646-BDDAE555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2766B9-557A-4093-9E7D-3DFE213B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42EF9B-3386-4252-AF30-EA34B943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CA19-CD45-4FA8-9F47-3DBF135B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23C650-65B4-4AF8-A2F6-2AC6B986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E05EF7-6053-4B84-ACC5-D79754958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ADE02C-8604-4F33-980E-E4E4F886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E0A181-A2AA-4E79-AAF0-0B9E5A73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27E59F-EA6F-48BB-AF64-9657C827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F50AE4-2A7A-4396-A0AE-00212F0C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DFA6A8-1942-4A5A-9DFE-77195148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A5BC5F-731E-4AB5-8E8F-16B67243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FE9F9C-4319-4931-A20B-6B41093D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BCDB75-4706-48FE-A8EE-FC9141B5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CC17-D46D-44DD-B0E0-DCEE88D8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859D3A-88AD-4748-B9B7-F2891A9F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6EA0DB-B65C-4D03-AEC5-E4E921F1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A98D36-59A0-47F1-A4CE-DA47E873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D8F5A0-06E1-4D04-B03E-8332BB616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CCC9DC-565D-4920-B11D-FB3AD2FB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653C-3609-40B6-903A-8C490060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199A-6130-4DE9-8860-704F36E5F43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95CE-2F7E-4B63-B28C-830A9924D7F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09B9-79B7-4F49-928D-C33F3FF1F4D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9422-732A-4F90-A80B-564BA611BB3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14DC-2170-4375-90F9-BFDCACD8AFE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8B76-1059-4E6F-9A8C-3F3E7DD7EE2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E4D2-15BD-4BB1-AF6C-7C14620D47A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831960" y="2255760"/>
          <a:ext cx="7781760" cy="265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2255760"/>
                    <a:ext cx="778176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425520" y="345960"/>
          <a:ext cx="8345520" cy="689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5960"/>
                    <a:ext cx="8345520" cy="689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506520" y="407880"/>
          <a:ext cx="8184960" cy="651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407880"/>
                    <a:ext cx="8184960" cy="65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"/>
          <p:cNvGraphicFramePr/>
          <p:nvPr/>
        </p:nvGraphicFramePr>
        <p:xfrm>
          <a:off x="558720" y="399960"/>
          <a:ext cx="8221680" cy="637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399960"/>
                    <a:ext cx="8221680" cy="63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3" name="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1020600" y="754200"/>
          <a:ext cx="7209000" cy="520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0600" y="754200"/>
                    <a:ext cx="7209000" cy="52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698400" y="457200"/>
          <a:ext cx="7940880" cy="64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457200"/>
                    <a:ext cx="7940880" cy="64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601560" y="469800"/>
          <a:ext cx="8337600" cy="655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469800"/>
                    <a:ext cx="8337600" cy="65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709560" y="433440"/>
          <a:ext cx="784548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33440"/>
                    <a:ext cx="784548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901800" y="698400"/>
          <a:ext cx="7532640" cy="696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698400"/>
                    <a:ext cx="7532640" cy="69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638280" y="746280"/>
          <a:ext cx="8361360" cy="75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746280"/>
                    <a:ext cx="8361360" cy="75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835200" y="496800"/>
          <a:ext cx="7775280" cy="61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496800"/>
                    <a:ext cx="7775280" cy="61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5"/>
          <p:cNvSpPr/>
          <p:nvPr/>
        </p:nvSpPr>
        <p:spPr>
          <a:xfrm>
            <a:off x="468360" y="292680"/>
            <a:ext cx="8424720" cy="64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2.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cribir una función que reciba dos enteros y entregue el mayor de los dos (sin usar Math.max). Ej: int m = mayor(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nt x, 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"/>
          <p:cNvGraphicFramePr/>
          <p:nvPr/>
        </p:nvGraphicFramePr>
        <p:xfrm>
          <a:off x="1055520" y="684360"/>
          <a:ext cx="7670880" cy="681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5520" y="684360"/>
                    <a:ext cx="7670880" cy="68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914400" y="517680"/>
          <a:ext cx="725472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2547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434880" y="274680"/>
          <a:ext cx="7989840" cy="64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274680"/>
                    <a:ext cx="7989840" cy="64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Line 8"/>
          <p:cNvSpPr/>
          <p:nvPr/>
        </p:nvSpPr>
        <p:spPr>
          <a:xfrm>
            <a:off x="6227640" y="407664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9"/>
          <p:cNvSpPr/>
          <p:nvPr/>
        </p:nvSpPr>
        <p:spPr>
          <a:xfrm flipH="1">
            <a:off x="3850920" y="630864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1058760" y="806400"/>
          <a:ext cx="7543800" cy="54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806400"/>
                    <a:ext cx="754380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Victor Ramiro</cp:lastModifiedBy>
  <cp:lastPrinted>2006-03-17T17:08:51Z</cp:lastPrinted>
  <dcterms:modified xsi:type="dcterms:W3CDTF">2010-03-31T03:26:30Z</dcterms:modified>
  <cp:revision>40</cp:revision>
  <dc:subject/>
  <dc:title>Sin título de diapositiva</dc:title>
</cp:coreProperties>
</file>