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6B0B-A4A5-49C7-976A-A5C59C3397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FF27-E3FF-47FA-A3E6-461A8E965F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9AD9-B46F-4BEC-B466-A177125F9A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994-5B9F-4F12-8ED3-59DFC756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1FE-5483-44E5-8350-2A66DAE0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AFB-C112-4225-B4F1-61BF9005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CAB-66B7-4C77-94EF-0A675D43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38CD-A2C1-487B-95FD-3B68BC2C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F3A2-6006-4523-A444-92431E7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38C4-9A92-4F88-8309-86F6526B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34CC-9A37-4DF6-90B3-1D1C300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0AC0-5DC0-41FD-A951-E22E61B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875B-0136-4954-BB3E-E3B39230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3F8D-2CBB-472E-9E09-8C3E4EF5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27F-9AEC-4C85-B0A1-AEAD1643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63B-15A5-45B4-A55E-E0BE31C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D20-452C-434C-BF75-7E86DDF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01B8-A26E-42C6-BD8B-2972FAC8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465A-4F5F-4507-9272-3FAD9D9D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750F-16FF-4BAD-AAB0-5DE1C3F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FCF7C-9574-4C4B-8450-9819E65E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641F1-C849-410A-BFF7-B755B5D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9BDED-F750-4CF0-BC4B-481DB7C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40A79-DA54-4423-9E09-F785798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F04DC-87ED-4CCA-83E1-A821CDC9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0E8-1393-45A3-AB9F-9552521B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057ED-B3B0-4899-B381-016E036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091B9-C5C5-4B2F-BB6A-4DA780B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CF930-0BF5-401F-9835-7AF0D20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C83AF-428B-43AB-A882-5AF4673A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D6C81-775B-456E-987F-A8ADA03E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152C9-B49D-49F0-B30A-DE659915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A6781-E35C-4A56-AA16-C57CD2D4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EF4EA-405F-468F-AA67-3A56147C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15F2-A3E7-4332-A2A1-B4EC27C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C37A-39C7-4BE8-9C92-0DA8CB6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E9D-2C16-423A-BC8B-73A2A20A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61A5-9B51-4FB3-AF46-033BE696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4FD96-80FE-43D9-A000-36D6ABB4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141F-7BED-4593-8BC3-D53D4B61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3320B-9DB3-43F3-B61C-4AD552A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F23D-92A2-4F42-A018-FA56612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2E27-D95A-477A-80CC-9BF64048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B671-1494-4039-8B8F-662DEE7F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7043-4636-46C8-A267-2441A7F2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0D86-A372-49A1-A1ED-FF575FCC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D9261-B456-4CB2-8292-A91FF4D5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230-9C5D-4F45-9651-8122C6D2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1C872-63B2-4D09-816C-6B2C67A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E90F5-E7B2-48D0-BC94-2177C3D6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1D9D3-C886-44DD-9E9F-1C942475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E8B77-911D-4FC0-97FB-88F79842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3396C-DC23-48CC-BE92-C98186F8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E4071-F375-40A0-879B-7FD4CEE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40FB2-CC4F-49DB-A91A-6718D76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D3FB0-BE16-4200-BC77-1C8CBA4E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66390-2F1C-4E8E-B9D4-47BB113F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56347-47D1-44A1-A250-3302FFEB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AAF-B2C3-45F1-9F9B-588E5AFF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5B940-F774-4271-A5EC-1F0E40E5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E0B33-F72E-4B95-BBD1-BAE6525C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89DAA-A924-47C9-83A0-E9479A7D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385D1-55F1-4694-BA0B-F7505365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10C84-3ACC-4C1D-9ADA-1AD15B6A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02768-93A7-4317-AD15-CBD6967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3DC26-394F-4534-B38A-A0B55938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A2479-9CD2-4A1E-A068-DCCA527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ED156-DCAC-4B63-A9FB-79BCB46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E35EA-97D6-44B7-BE7A-12A8B03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9EF-27BF-4F27-840E-784A428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39355-4F23-4676-A9B3-DF04B04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2A701-797B-44A0-9D0F-941B1B09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0E6EC-1E65-43CB-B9DD-83AC601B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ACEBE-AFA6-4335-BCE1-8CA066B0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90505-47F6-47BE-A983-64051378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35234-9EE7-4767-979A-1AD402C4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9CA5A-F6B5-404A-B353-538FF2A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B61F4-CEE4-40BE-9092-633023E7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A3D8C-4590-44FF-96D2-44EA96B6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EFBA3-CFAB-43D6-9757-B21E79E0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8FB-5A38-4381-8320-00B1E10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47A90-0908-496B-BD74-BB93884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1F07D-3907-4A74-BA47-845FABF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521FA-F7E5-48C5-B48D-CCC7E6C6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5A82B-4ACA-4F47-B41F-8BB88851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C6EF1-E571-4A39-9AF0-A2772B4C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B17-F655-4005-9820-C4A95F17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9E7-A44F-4071-8FC8-CC3568ADF2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847-10C2-4850-801C-C72C2FA463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FAE8-9489-4854-BE59-BA4E5390EA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50F-E283-4049-8BEB-8C0169D9DF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19CE-7038-4756-9887-DB063AC984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A84-A623-4D7B-A2E8-9353A98968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F4C-5F0A-46FB-9B72-0635966336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9960" y="476280"/>
          <a:ext cx="81806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180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76280" y="250920"/>
          <a:ext cx="836784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0920"/>
                    <a:ext cx="836784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538200" y="450720"/>
          <a:ext cx="839304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50720"/>
                    <a:ext cx="83930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576360" y="488880"/>
          <a:ext cx="790416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88880"/>
                    <a:ext cx="790416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65120" y="493560"/>
          <a:ext cx="82724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724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78000" y="493560"/>
          <a:ext cx="86785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785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Victor Ramiro</cp:lastModifiedBy>
  <cp:lastPrinted>2006-03-14T15:11:26Z</cp:lastPrinted>
  <dcterms:modified xsi:type="dcterms:W3CDTF">2010-03-26T02:49:36Z</dcterms:modified>
  <cp:revision>60</cp:revision>
  <dc:subject/>
  <dc:title>Sin título de diapositiva</dc:title>
</cp:coreProperties>
</file>