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</p:sldIdLst>
  <p:sldSz cx="9144000" cy="6858000"/>
  <p:notesSz cx="6781800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782400" cy="988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383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 2: Func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41920" y="-360"/>
            <a:ext cx="29383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920520" y="739440"/>
            <a:ext cx="4941720" cy="370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79320" y="4692600"/>
            <a:ext cx="5423040" cy="44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4192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D9FFF-7250-4A94-8E89-E93065F2478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2"/>
          <p:cNvSpPr/>
          <p:nvPr/>
        </p:nvSpPr>
        <p:spPr>
          <a:xfrm>
            <a:off x="0" y="0"/>
            <a:ext cx="29383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 2: Func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Rectangle 6"/>
          <p:cNvSpPr/>
          <p:nvPr/>
        </p:nvSpPr>
        <p:spPr>
          <a:xfrm>
            <a:off x="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Rectangle 7"/>
          <p:cNvSpPr/>
          <p:nvPr/>
        </p:nvSpPr>
        <p:spPr>
          <a:xfrm>
            <a:off x="384192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62D40-071B-460E-AE43-1004427CCBD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920880" y="739800"/>
            <a:ext cx="4941720" cy="370692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79320" y="4692600"/>
            <a:ext cx="5423040" cy="444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2"/>
          <p:cNvSpPr/>
          <p:nvPr/>
        </p:nvSpPr>
        <p:spPr>
          <a:xfrm>
            <a:off x="0" y="0"/>
            <a:ext cx="29383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 2: Func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Rectangle 6"/>
          <p:cNvSpPr/>
          <p:nvPr/>
        </p:nvSpPr>
        <p:spPr>
          <a:xfrm>
            <a:off x="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Rectangle 7"/>
          <p:cNvSpPr/>
          <p:nvPr/>
        </p:nvSpPr>
        <p:spPr>
          <a:xfrm>
            <a:off x="384192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4F5C0-0641-4EEF-BFB5-F2E2924B1B6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920880" y="739800"/>
            <a:ext cx="4941720" cy="370692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79320" y="4692600"/>
            <a:ext cx="5423040" cy="444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9571-E5B4-4F92-AC94-29BB80959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09E6-C6CA-48C4-9F15-E52F188F1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E40B-AE5B-41F6-9EB7-D3055D050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6F7C-EB1C-47FF-B2D8-F819CDD1F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7E18B-190A-4327-9CFA-D43D8A36C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46232-6CB1-46CF-BE9B-55FD44032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1F970-7F16-4F98-A272-9FB703A64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F2433-CC57-484D-9049-040EBAA65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777CE-76D7-4CD6-A509-093C10688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118B2-A518-4E95-B06C-D88384AB1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C535B-0295-446B-AEB0-161A1347E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FF2D-6147-4C5B-8A24-04C757FD8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500A7-794D-445A-96E2-323A94580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DB0A1-8B72-4DEE-8035-E51ED59CE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1F741-B390-4D74-870A-6AE8C5063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690E6-B0DF-4CED-A305-BA49423E2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03379-5534-48AD-A67B-87CB1BA78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AB619D-7306-4B5E-948E-FE018821B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79689E-7BCA-4877-8BB2-39A3136EC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8F4AAE-D04A-4624-ADDB-2AC9A731E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42E1C2-2D0C-49C5-B602-DF6BF8074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8B0A06-5D61-46D1-934D-628F7A57E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C3CE-6CB1-4D41-9DCE-67F4C4D16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A5B843-B3E9-4F93-8086-4C026DBDE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287FCB-9E32-4F22-B24A-BC8F8B666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E7F77B-8943-46D0-A0BD-6BFC6487E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91270A-108B-49BC-A643-E2D7B0E2A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61C5FF-13BF-4A6B-9761-5A327D20E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89AAF1-9C54-4CEE-958F-685A1F39E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6B0168-B239-4DD1-9510-B97990EDB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6938ED-8F06-4A67-85D0-9419DF86E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BA8740-ADD8-4886-94E7-037A17C74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915FB8-104D-4EF2-B765-BD70A093D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656F-946E-4B3C-9899-9EE178476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32CCF3-3289-4646-BCD7-C4D3C1C00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1A9CFF-8680-43E2-9A9D-D30DE11F6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E0E6FD-5F14-497D-975F-393CB88CF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10DE22-6CE8-420D-9224-2F446E342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0E700B-23C6-48EB-A9AF-334A739E2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730616-647C-4672-BA2D-E09198569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FCEA80-D692-4AC6-B8B9-78EAA214C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B2FC15-ABDE-4528-81A3-F47D9BE16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11AC8E-6616-4C44-8B7C-42621114B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1A50CF-CEBA-4D68-AECD-021BAA606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7A1F-997A-489E-809C-85E99EE11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C0CD3A-B5E9-4029-A68F-4A91582F9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344EA3-C39E-4D18-A2F7-2A9C20D98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6A50AF-3BFC-4F76-9D18-968389B3F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FA64EA5-F6DC-4978-9B52-EFF5B4C42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6A0177-0E5D-419F-8395-608F33CE0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EA1999-2C1A-424D-977E-5A34BAB28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B99197-9A27-4CF6-B1BD-575F461BA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FE73FA-41C0-4BB5-BF23-E16B08F5D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00CD6F-51D6-4FDB-8B8C-D2676AB20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B33B60-9CDA-47B8-B22F-5BA360E05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F729-49A8-4A2D-B2FE-D8175568A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BD65B0-BD52-466C-A7F4-0E26EF0B9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7E2C37A-AC01-4638-9BEF-2B2DFEEAA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EE94391-94EF-4CF7-A937-B18BD7367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1C9CD2D-ECAC-4FDF-8F05-6CE822FD8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F6C8899-AA04-4CD2-BECF-5CCD6B9B3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34ABDF6-6C41-432C-B2A5-5ADF0BB83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CB7ADD5-6FD5-40F2-AEA7-163D9C9F2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69B128-965D-4C1E-8F61-21B8E382C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2FB227D-B1EE-4473-8166-0D8BAC1D2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E22C13D-1489-4822-9133-9A6E0F448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73AE-929B-4EE7-A9C4-935822AA3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AD9819F-D219-4D38-B6E9-F7E61ABF3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DB534E3-8392-4B29-A04E-756DFEBE4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16622DF-1457-4D05-8C60-A95451426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734F507-D9C5-4D59-BDC1-3670A19DF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C4B0EA1-C588-4BB4-9C09-E5EDBA89A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2E6E47A-C444-4B62-A708-4102AA68F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455AA69-FDF4-444C-978E-015A0F21E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D932674-6EA6-4E6A-9627-7E80C417C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3E89454-04F0-4F3B-90AD-97D73FABA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5D3B024-578F-4EFA-A288-1FBB1BD3F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B6FB-C20D-414B-8849-BC2E88F83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1409C83-E983-40F8-8E90-2770B9ADE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4E7D207-F5B9-4FB6-8251-5188028F8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43696A2-95A0-4160-A8AE-E4A90EF2A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340DA7F-3D80-4DFD-9E8C-93DDF67B4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1FD5077-CDFB-4DAB-95FC-67F5CD616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2920-0B75-4CD6-92F0-0BB2D643A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2DDF6-0FD1-4DC4-9820-70EF55117FC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BEB75-C875-45E4-9DCF-D53EEF7D293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3CACC-C1CC-47C0-919A-8D3B854363E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22FCA-D796-443F-937E-34E3538005E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34700-D90A-4365-A202-98E38B4AF74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7DAD5-BF2E-4FDB-8D1C-CE39556AAC7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0DB34-6219-423C-AB1E-FF0BA6407E7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8" name=""/>
          <p:cNvGraphicFramePr/>
          <p:nvPr/>
        </p:nvGraphicFramePr>
        <p:xfrm>
          <a:off x="711360" y="736560"/>
          <a:ext cx="8051760" cy="5346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1360" y="736560"/>
                    <a:ext cx="8051760" cy="534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6" name=""/>
          <p:cNvGraphicFramePr/>
          <p:nvPr/>
        </p:nvGraphicFramePr>
        <p:xfrm>
          <a:off x="399960" y="476280"/>
          <a:ext cx="8180640" cy="5975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960" y="476280"/>
                    <a:ext cx="8180640" cy="597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8" name=""/>
          <p:cNvGraphicFramePr/>
          <p:nvPr/>
        </p:nvGraphicFramePr>
        <p:xfrm>
          <a:off x="476280" y="250920"/>
          <a:ext cx="8367840" cy="6638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6280" y="250920"/>
                    <a:ext cx="8367840" cy="66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0" name=""/>
          <p:cNvGraphicFramePr/>
          <p:nvPr/>
        </p:nvGraphicFramePr>
        <p:xfrm>
          <a:off x="538200" y="450720"/>
          <a:ext cx="8393040" cy="6137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8200" y="450720"/>
                    <a:ext cx="8393040" cy="613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2" name=""/>
          <p:cNvGraphicFramePr/>
          <p:nvPr/>
        </p:nvGraphicFramePr>
        <p:xfrm>
          <a:off x="576360" y="488880"/>
          <a:ext cx="7904160" cy="6388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6360" y="488880"/>
                    <a:ext cx="7904160" cy="638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4" name=""/>
          <p:cNvGraphicFramePr/>
          <p:nvPr/>
        </p:nvGraphicFramePr>
        <p:xfrm>
          <a:off x="546120" y="482760"/>
          <a:ext cx="8458200" cy="7670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6120" y="482760"/>
                    <a:ext cx="8458200" cy="76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6" name=""/>
          <p:cNvGraphicFramePr/>
          <p:nvPr/>
        </p:nvGraphicFramePr>
        <p:xfrm>
          <a:off x="465120" y="493560"/>
          <a:ext cx="8272440" cy="6328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5120" y="493560"/>
                    <a:ext cx="8272440" cy="632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0" name=""/>
          <p:cNvGraphicFramePr/>
          <p:nvPr/>
        </p:nvGraphicFramePr>
        <p:xfrm>
          <a:off x="520560" y="647640"/>
          <a:ext cx="8344080" cy="5791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0560" y="647640"/>
                    <a:ext cx="834408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2" name=""/>
          <p:cNvGraphicFramePr/>
          <p:nvPr/>
        </p:nvGraphicFramePr>
        <p:xfrm>
          <a:off x="692280" y="544680"/>
          <a:ext cx="7769160" cy="5789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544680"/>
                    <a:ext cx="7769160" cy="578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4" name=""/>
          <p:cNvGraphicFramePr/>
          <p:nvPr/>
        </p:nvGraphicFramePr>
        <p:xfrm>
          <a:off x="673200" y="504720"/>
          <a:ext cx="8084880" cy="6124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3200" y="504720"/>
                    <a:ext cx="8084880" cy="612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6" name=""/>
          <p:cNvGraphicFramePr/>
          <p:nvPr/>
        </p:nvGraphicFramePr>
        <p:xfrm>
          <a:off x="115920" y="420840"/>
          <a:ext cx="9056520" cy="6792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920" y="420840"/>
                    <a:ext cx="9056520" cy="679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8" name=""/>
          <p:cNvGraphicFramePr/>
          <p:nvPr/>
        </p:nvGraphicFramePr>
        <p:xfrm>
          <a:off x="425520" y="501480"/>
          <a:ext cx="8555040" cy="5686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5520" y="501480"/>
                    <a:ext cx="8555040" cy="56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0" name=""/>
          <p:cNvGraphicFramePr/>
          <p:nvPr/>
        </p:nvGraphicFramePr>
        <p:xfrm>
          <a:off x="676440" y="501480"/>
          <a:ext cx="7991280" cy="6050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6440" y="501480"/>
                    <a:ext cx="7991280" cy="605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2" name=""/>
          <p:cNvGraphicFramePr/>
          <p:nvPr/>
        </p:nvGraphicFramePr>
        <p:xfrm>
          <a:off x="378000" y="493560"/>
          <a:ext cx="8678520" cy="7489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8000" y="493560"/>
                    <a:ext cx="8678520" cy="748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4" name=""/>
          <p:cNvGraphicFramePr/>
          <p:nvPr/>
        </p:nvGraphicFramePr>
        <p:xfrm>
          <a:off x="378000" y="493560"/>
          <a:ext cx="8707320" cy="7489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8000" y="493560"/>
                    <a:ext cx="8707320" cy="748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3:05:30Z</dcterms:created>
  <dc:creator>jalvarez</dc:creator>
  <dc:description/>
  <dc:language>en-US</dc:language>
  <cp:lastModifiedBy>Victor Ramiro</cp:lastModifiedBy>
  <cp:lastPrinted>2006-03-14T15:11:26Z</cp:lastPrinted>
  <dcterms:modified xsi:type="dcterms:W3CDTF">2010-03-26T02:49:36Z</dcterms:modified>
  <cp:revision>60</cp:revision>
  <dc:subject/>
  <dc:title>Sin título de diapositiva</dc:title>
</cp:coreProperties>
</file>