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766-584E-451B-A1E5-74851E4B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AB4-17B5-45D4-B6FD-7533B433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178-13EA-4D0D-87BB-D2900BF8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B4A-EDD3-4C80-8F0C-462B5E0D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294-3488-4005-85A9-C477328C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E2C-6003-426C-B34C-3A3ABA3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FFE-56D6-46D8-9B3D-3B8E9531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5E4-1CAC-4B9C-BD6C-621E2269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618-89B0-4235-A017-6ABA49FC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101-5EC1-4739-A812-2F8AAD61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531-F20B-4C7E-8D26-4B82D6A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717-E9DE-4D63-83AE-59EA528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CF961E01-2E1D-42CC-9ADF-856BF52B1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3-17T19:28:53Z</dcterms:modified>
  <cp:revision>84</cp:revision>
  <dc:subject/>
  <dc:title>Sin título de diapositiva</dc:title>
</cp:coreProperties>
</file>