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937-E85F-49D0-8066-F58B62E7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09F-C18A-4671-BCA1-F1DB2663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4EA8-7702-4EDF-AF28-6559E161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66D-FE5E-4D1A-B1F7-8196DD5C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66D-2DD7-421A-9C26-FA0878A1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6722-ADD1-4557-A078-A630AEB6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15F-2A58-48EF-9C77-06D15EA0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CBD-EF73-4720-BE9C-B2E543A2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9AE-BCF9-4183-966B-2626ED44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DA83-9169-4DFF-8DCC-59505DE8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A62-0E43-4400-8276-BAC8394C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0894-324D-4F83-BA46-3CBC76FD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DE7A2652-F7DE-4F0B-AB1C-EB2EB610F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6520" y="519120"/>
          <a:ext cx="8489880" cy="61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89880" cy="61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1640" y="371520"/>
          <a:ext cx="874872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4872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1640" y="371520"/>
          <a:ext cx="877428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7428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9120" y="493560"/>
          <a:ext cx="8402760" cy="75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02760" cy="75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407880"/>
          <a:ext cx="841536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1536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82760"/>
          <a:ext cx="862488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2488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2760"/>
          <a:ext cx="8674200" cy="77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7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82760"/>
          <a:ext cx="8588520" cy="71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1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7680" y="345960"/>
          <a:ext cx="8859960" cy="647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45960"/>
                    <a:ext cx="8859960" cy="647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395280"/>
          <a:ext cx="866304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6304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3280" y="90828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 //le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200160"/>
            <a:ext cx="856908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entero y lo guarda en la variable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40840" cy="820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40840" cy="820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0-03-17T19:28:53Z</dcterms:modified>
  <cp:revision>84</cp:revision>
  <dc:subject/>
  <dc:title>Sin título de diapositiva</dc:title>
</cp:coreProperties>
</file>