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999-CFD9-4E44-95A5-AD535907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CCB-5D4F-4905-A735-C528F42C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E5A3-91E1-4C05-B5A9-161F2DC8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1AE-090B-4013-805D-E25DC4A8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994-CBD8-493C-B1A0-71E916F4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4A4-2530-4C2E-8254-9A1D0C2F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E87-1A7E-46CC-9491-735569D8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F4C-B2A6-49D7-A80C-B68FECEF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2F53-F2D6-4A33-8B32-5B636367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173-CF6C-4437-A678-8A236BD4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82E-DCFB-4C39-9825-E21DFA92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788-0A30-412E-B7D8-3DC8DC84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C1524DB3-0961-4DD2-B3AF-454643F09C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6520" y="519120"/>
          <a:ext cx="8489880" cy="61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89880" cy="61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1640" y="371520"/>
          <a:ext cx="874872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4872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1640" y="371520"/>
          <a:ext cx="877428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7428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9120" y="493560"/>
          <a:ext cx="8402760" cy="75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02760" cy="75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407880"/>
          <a:ext cx="841536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1536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82760"/>
          <a:ext cx="862488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2488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2760"/>
          <a:ext cx="8674200" cy="77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7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82760"/>
          <a:ext cx="8588520" cy="71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1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7680" y="345960"/>
          <a:ext cx="8859960" cy="647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45960"/>
                    <a:ext cx="8859960" cy="647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395280"/>
          <a:ext cx="866304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6304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3280" y="90828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 //le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00160"/>
            <a:ext cx="856908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entero y lo guarda en la variable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40840" cy="820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40840" cy="820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0-03-17T19:28:53Z</dcterms:modified>
  <cp:revision>84</cp:revision>
  <dc:subject/>
  <dc:title>Sin título de diapositiva</dc:title>
</cp:coreProperties>
</file>