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2C0-216E-4920-9C46-B722703E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FDAE-CD05-4A5C-A7F3-AFAA2CC7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6C1D-F0DF-4D2D-A2D7-EB06AF5E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C8A5-F12D-4193-87D0-B8AA34FD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0A19-55E8-4F3D-9B94-FA2665A0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6E8E-C96D-4006-8A1A-A04EE385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2368-E198-4B50-BC07-F4606ED7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E532-3EBC-46D5-9876-32EFCD14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7559-2095-4CBB-ABD9-513E51BF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3C74-1E9C-41DE-AC11-3C2C94C9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BC69-BE31-4765-8F13-19C6470A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B481-6968-4F8B-9180-4A580DD3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1D00B830-3D04-4DF0-9C21-1B74AD61CA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06520" y="519120"/>
          <a:ext cx="8489880" cy="61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19120"/>
                    <a:ext cx="8489880" cy="61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1640" y="371520"/>
          <a:ext cx="8748720" cy="778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48720" cy="77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31640" y="371520"/>
          <a:ext cx="8774280" cy="778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74280" cy="77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19120" y="493560"/>
          <a:ext cx="8402760" cy="75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02760" cy="75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407880"/>
          <a:ext cx="841536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1536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82760"/>
          <a:ext cx="862488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2488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82760"/>
          <a:ext cx="8674200" cy="773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74200" cy="77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82760"/>
          <a:ext cx="8588520" cy="710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71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47680" y="345960"/>
          <a:ext cx="8859960" cy="647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45960"/>
                    <a:ext cx="8859960" cy="647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395280"/>
          <a:ext cx="866304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6304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3280" y="90828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 //lec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200160"/>
            <a:ext cx="856908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entero y lo guarda en la variable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40840" cy="820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40840" cy="820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0-03-17T19:28:53Z</dcterms:modified>
  <cp:revision>84</cp:revision>
  <dc:subject/>
  <dc:title>Sin título de diapositiva</dc:title>
</cp:coreProperties>
</file>