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4DBF-77E6-4261-8EA1-8CD1F1F63F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3 Marcador de encabezado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9C3B-B4A4-4E31-B59A-4982913EE3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40D6-7CD2-4428-961C-20E998FF75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9D90-F65E-4805-875E-176E8F3F3F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5CD-875A-4B71-A28E-A8255B76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B88-4990-48A6-A3BB-AD0FE2FE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5C6-83CC-4759-90DE-79C4F84A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7DC-7150-461B-BEC8-544990FA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D64-D930-4D4A-B230-2BFD3F44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E02-3A62-4111-A0C7-45D6CFD2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10C-11E6-4098-924D-D33A9363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7A6-414F-4AB1-9F2A-5A833423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599-8211-490B-9FA3-D93B3825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AD2-A9BA-4A4D-B893-FD335FF0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0F2-1CBD-4892-BA73-1CA22588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664-FC9E-4C84-A801-FD21DB07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0DE3-EFE4-4FDE-83D3-C4CA280FF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3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11200" y="403200"/>
          <a:ext cx="8136000" cy="72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03200"/>
                    <a:ext cx="8136000" cy="72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673200" y="444600"/>
          <a:ext cx="7812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812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96800" y="549360"/>
          <a:ext cx="85298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549360"/>
                    <a:ext cx="85298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496800" y="431640"/>
          <a:ext cx="8334360" cy="81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496800" y="431640"/>
          <a:ext cx="8334360" cy="813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509760" y="496800"/>
          <a:ext cx="8359560" cy="616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35956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509760" y="496800"/>
          <a:ext cx="822960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2296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517680" y="498600"/>
          <a:ext cx="8178480" cy="59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98600"/>
                    <a:ext cx="81784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5"/>
          <p:cNvGraphicFramePr/>
          <p:nvPr/>
        </p:nvGraphicFramePr>
        <p:xfrm>
          <a:off x="514440" y="496800"/>
          <a:ext cx="82198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6800"/>
                    <a:ext cx="82198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pino</dc:creator>
  <dc:description/>
  <dc:language>en-US</dc:language>
  <cp:lastModifiedBy>jpino</cp:lastModifiedBy>
  <cp:lastPrinted>2005-03-29T16:14:14Z</cp:lastPrinted>
  <dcterms:modified xsi:type="dcterms:W3CDTF">2010-04-08T14:40:57Z</dcterms:modified>
  <cp:revision>44</cp:revision>
  <dc:subject/>
  <dc:title>clase 6</dc:title>
</cp:coreProperties>
</file>