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11E0-C0D5-48F6-86CF-B3A9D1062B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3 Marcador de encabezado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BAAB-F9A7-4A70-A0ED-E1797B7EC1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DB80-2FAF-481C-8EA7-52BDB34737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9671-D022-4F83-B9BD-16BE4DE550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BD1-9C2B-4406-8EF5-A891A6D7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051-CE08-43FB-980B-7E6EC22D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BDE-FE9D-4EFF-A585-D6FCBE0C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00E-53EC-4BAB-9CE6-A7F5875B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EBB-45D6-4F23-B8F8-C2B79E91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DC6-29AD-4F79-8068-5B123770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EBE-AED3-4138-9873-1150D69B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C53-E1D1-4A81-846F-BC103FB5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647-084E-416F-921E-97C1A997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AF5-6038-461C-9170-D4C0F4D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665-5E4B-4936-AFEB-134F0223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08F-A8DC-4C5D-99A4-2716CE56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9D06-2BCD-4BF0-94B8-5DA81653E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3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11200" y="403200"/>
          <a:ext cx="8136000" cy="72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03200"/>
                    <a:ext cx="8136000" cy="72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673200" y="444600"/>
          <a:ext cx="7812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812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96800" y="549360"/>
          <a:ext cx="85298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549360"/>
                    <a:ext cx="85298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496800" y="431640"/>
          <a:ext cx="8334360" cy="81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496800" y="431640"/>
          <a:ext cx="8334360" cy="813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509760" y="496800"/>
          <a:ext cx="8359560" cy="616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35956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509760" y="496800"/>
          <a:ext cx="822960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2296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517680" y="498600"/>
          <a:ext cx="8178480" cy="59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98600"/>
                    <a:ext cx="8178480" cy="59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5"/>
          <p:cNvGraphicFramePr/>
          <p:nvPr/>
        </p:nvGraphicFramePr>
        <p:xfrm>
          <a:off x="514440" y="496800"/>
          <a:ext cx="8219880" cy="60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6800"/>
                    <a:ext cx="82198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pino</dc:creator>
  <dc:description/>
  <dc:language>en-US</dc:language>
  <cp:lastModifiedBy>jpino</cp:lastModifiedBy>
  <cp:lastPrinted>2005-03-29T16:14:14Z</cp:lastPrinted>
  <dcterms:modified xsi:type="dcterms:W3CDTF">2010-04-08T14:40:57Z</dcterms:modified>
  <cp:revision>44</cp:revision>
  <dc:subject/>
  <dc:title>clase 6</dc:title>
</cp:coreProperties>
</file>