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4320" y="695160"/>
            <a:ext cx="4635720" cy="347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05600"/>
            <a:ext cx="3027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64970-D1AE-4282-BC3B-F4142C00354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3 Marcador de encabezado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4 Marcador de pie de página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5 Marcador de número de diapositiva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D609-4D15-455B-9BEB-61C2E613A481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19492-C72C-4003-8BD5-17F5405A369C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clase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J.A. Pino: clas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3956040" y="8805960"/>
            <a:ext cx="30272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FC09-75CB-48D5-9C3B-8121A478210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4680" y="695160"/>
            <a:ext cx="4635720" cy="347688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03880"/>
            <a:ext cx="558828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629-678C-4E9C-BDC8-7F130D7F0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5DF2-3B43-48A2-8D80-0319B79E5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C712-C595-4DBD-85E1-26CC98080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026D-9561-4166-8D89-3C911F473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014-A71D-41F2-A9E4-FADC5B8DC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C1E23-19C9-4B2F-A588-A4B153216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F186-C039-42DE-A6CD-81D45A38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61AF-D951-41A6-81F2-C55E15724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F4B4-4D40-4DEF-BEB6-CE3FF123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453C-2B47-4BD2-82AD-70F4E330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F553-F57D-4703-BE5C-1EFBABA3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C72A-7D7A-4AE5-915B-C3F50472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8951-BCA9-47CB-8960-DA4FCA0FD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4"/>
          <p:cNvGraphicFramePr/>
          <p:nvPr/>
        </p:nvGraphicFramePr>
        <p:xfrm>
          <a:off x="733320" y="554040"/>
          <a:ext cx="8229600" cy="621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554040"/>
                    <a:ext cx="8229600" cy="62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4"/>
          <p:cNvGraphicFramePr/>
          <p:nvPr/>
        </p:nvGraphicFramePr>
        <p:xfrm>
          <a:off x="480960" y="469800"/>
          <a:ext cx="849492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960" y="469800"/>
                    <a:ext cx="849492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4200" y="495360"/>
          <a:ext cx="8251560" cy="635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51560" cy="63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853920" y="531720"/>
          <a:ext cx="7520040" cy="6061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3920" y="531720"/>
                    <a:ext cx="7520040" cy="606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927000" y="793800"/>
          <a:ext cx="7747200" cy="552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7000" y="793800"/>
                    <a:ext cx="7747200" cy="55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11200" y="403200"/>
          <a:ext cx="8136000" cy="722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403200"/>
                    <a:ext cx="8136000" cy="722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73200" y="444600"/>
          <a:ext cx="7812000" cy="614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3200" y="444600"/>
                    <a:ext cx="7812000" cy="614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2"/>
          <p:cNvGraphicFramePr/>
          <p:nvPr/>
        </p:nvGraphicFramePr>
        <p:xfrm>
          <a:off x="496800" y="549360"/>
          <a:ext cx="8529840" cy="701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549360"/>
                    <a:ext cx="8529840" cy="701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Object 2"/>
          <p:cNvGraphicFramePr/>
          <p:nvPr/>
        </p:nvGraphicFramePr>
        <p:xfrm>
          <a:off x="496800" y="431640"/>
          <a:ext cx="8334360" cy="8124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2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Object 4"/>
          <p:cNvGraphicFramePr/>
          <p:nvPr/>
        </p:nvGraphicFramePr>
        <p:xfrm>
          <a:off x="496800" y="431640"/>
          <a:ext cx="8334360" cy="813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31640"/>
                    <a:ext cx="8334360" cy="813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Object 2"/>
          <p:cNvGraphicFramePr/>
          <p:nvPr/>
        </p:nvGraphicFramePr>
        <p:xfrm>
          <a:off x="754200" y="619200"/>
          <a:ext cx="7893000" cy="640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19200"/>
                    <a:ext cx="7893000" cy="640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4"/>
          <p:cNvGraphicFramePr/>
          <p:nvPr/>
        </p:nvGraphicFramePr>
        <p:xfrm>
          <a:off x="733320" y="457200"/>
          <a:ext cx="7929720" cy="5678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3320" y="457200"/>
                    <a:ext cx="7929720" cy="567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6" name="Object 2"/>
          <p:cNvGraphicFramePr/>
          <p:nvPr/>
        </p:nvGraphicFramePr>
        <p:xfrm>
          <a:off x="792000" y="260280"/>
          <a:ext cx="7545600" cy="631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2000" y="260280"/>
                    <a:ext cx="7545600" cy="63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1112760" y="743040"/>
          <a:ext cx="754704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2760" y="743040"/>
                    <a:ext cx="754704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2"/>
          <p:cNvGraphicFramePr/>
          <p:nvPr/>
        </p:nvGraphicFramePr>
        <p:xfrm>
          <a:off x="1050840" y="828720"/>
          <a:ext cx="7508880" cy="53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828720"/>
                    <a:ext cx="7508880" cy="53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2"/>
          <p:cNvGraphicFramePr/>
          <p:nvPr/>
        </p:nvGraphicFramePr>
        <p:xfrm>
          <a:off x="915840" y="779400"/>
          <a:ext cx="7855200" cy="6037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779400"/>
                    <a:ext cx="785520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828720" y="482760"/>
          <a:ext cx="7893000" cy="6729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482760"/>
                    <a:ext cx="7893000" cy="67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Object 4"/>
          <p:cNvGraphicFramePr/>
          <p:nvPr/>
        </p:nvGraphicFramePr>
        <p:xfrm>
          <a:off x="509760" y="496800"/>
          <a:ext cx="8359560" cy="6166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359560" cy="616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Object 4"/>
          <p:cNvGraphicFramePr/>
          <p:nvPr/>
        </p:nvGraphicFramePr>
        <p:xfrm>
          <a:off x="509760" y="496800"/>
          <a:ext cx="8229600" cy="6073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" y="496800"/>
                    <a:ext cx="8229600" cy="607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Object 4"/>
          <p:cNvGraphicFramePr/>
          <p:nvPr/>
        </p:nvGraphicFramePr>
        <p:xfrm>
          <a:off x="517680" y="498600"/>
          <a:ext cx="8178480" cy="594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498600"/>
                    <a:ext cx="8178480" cy="594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Object 5"/>
          <p:cNvGraphicFramePr/>
          <p:nvPr/>
        </p:nvGraphicFramePr>
        <p:xfrm>
          <a:off x="514440" y="496800"/>
          <a:ext cx="8219880" cy="60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496800"/>
                    <a:ext cx="8219880" cy="60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988920" y="803160"/>
          <a:ext cx="69771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803160"/>
                    <a:ext cx="69771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614520" y="588960"/>
          <a:ext cx="8240400" cy="5499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88960"/>
                    <a:ext cx="8240400" cy="549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62040" y="601560"/>
          <a:ext cx="8192880" cy="5365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2040" y="601560"/>
                    <a:ext cx="8192880" cy="53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1014480" y="816120"/>
          <a:ext cx="765648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16120"/>
                    <a:ext cx="765648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757080" y="685800"/>
          <a:ext cx="7977240" cy="756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685800"/>
                    <a:ext cx="7977240" cy="756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4"/>
          <p:cNvGraphicFramePr/>
          <p:nvPr/>
        </p:nvGraphicFramePr>
        <p:xfrm>
          <a:off x="433440" y="480960"/>
          <a:ext cx="8518320" cy="70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480960"/>
                    <a:ext cx="8518320" cy="70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558720" y="482760"/>
          <a:ext cx="815364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482760"/>
                    <a:ext cx="815364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2T19:33:58Z</dcterms:created>
  <dc:creator>jpino</dc:creator>
  <dc:description/>
  <dc:language>en-US</dc:language>
  <cp:lastModifiedBy>jpino</cp:lastModifiedBy>
  <cp:lastPrinted>2005-03-29T16:14:14Z</cp:lastPrinted>
  <dcterms:modified xsi:type="dcterms:W3CDTF">2010-04-08T14:40:57Z</dcterms:modified>
  <cp:revision>44</cp:revision>
  <dc:subject/>
  <dc:title>clase 6</dc:title>
</cp:coreProperties>
</file>