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5: Recur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9880" y="739800"/>
            <a:ext cx="49388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. Pino: recur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4FE10-EFF3-4F8D-A76D-E2BC1490F93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5: Recur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. Pino: recur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D79A0-C859-4E31-8B6B-16C5D3323EF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1CF3-A489-48C7-9FCD-F63912315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9949-15AE-4814-AD44-C56246E1F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2378-E3B3-4D8A-96A1-3930FA578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3618-809F-43EF-9C5F-FE2D40AEC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B6B7-4EBE-4841-BB34-CC0E27951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3EE8-EF52-4161-B1DF-25A013BF3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EE67-5CBE-4300-9063-0F9D69AF1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51C3-A9B1-489F-92B2-06D9CDCAB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7A9D-3927-4FE2-B495-9FEBF5C6F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3443-1689-4DD9-AB4A-EB0927FD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940F-5EF6-4868-B45F-AF39A411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BB0F-8249-4F3D-96FB-D6C071DB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732F1-79F9-44DC-8D1B-EB3C198FB7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1095480" y="601560"/>
          <a:ext cx="7315200" cy="762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5480" y="601560"/>
                    <a:ext cx="7315200" cy="762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3"/>
          <p:cNvGraphicFramePr/>
          <p:nvPr/>
        </p:nvGraphicFramePr>
        <p:xfrm>
          <a:off x="793800" y="722160"/>
          <a:ext cx="8121600" cy="617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722160"/>
                    <a:ext cx="812160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766800" y="681120"/>
          <a:ext cx="7991280" cy="707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681120"/>
                    <a:ext cx="7991280" cy="707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2"/>
          <p:cNvGraphicFramePr/>
          <p:nvPr/>
        </p:nvGraphicFramePr>
        <p:xfrm>
          <a:off x="743040" y="803160"/>
          <a:ext cx="7904160" cy="524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803160"/>
                    <a:ext cx="7904160" cy="52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430200" y="457200"/>
          <a:ext cx="8659800" cy="625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200" y="457200"/>
                    <a:ext cx="8659800" cy="62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496800" y="646200"/>
          <a:ext cx="8472600" cy="680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646200"/>
                    <a:ext cx="8472600" cy="68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538200" y="484200"/>
          <a:ext cx="8458200" cy="720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8200" y="484200"/>
                    <a:ext cx="8458200" cy="720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5"/>
          <p:cNvGraphicFramePr/>
          <p:nvPr/>
        </p:nvGraphicFramePr>
        <p:xfrm>
          <a:off x="550800" y="511200"/>
          <a:ext cx="8337600" cy="681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511200"/>
                    <a:ext cx="8337600" cy="68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4"/>
          <p:cNvGraphicFramePr/>
          <p:nvPr/>
        </p:nvGraphicFramePr>
        <p:xfrm>
          <a:off x="550800" y="511200"/>
          <a:ext cx="8096400" cy="661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511200"/>
                    <a:ext cx="8096400" cy="661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blemas propues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685800" y="1989000"/>
            <a:ext cx="820728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t permutaciones(int x,int y) //x!/(x-y)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t combinaciones(int x,int y) //x!/(y!(x-y)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t fibonacci(int i)//entrega i-ésimo nº de Fibonac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ros: 0, 1, 1, 2, 3, 5, 8, 13, 21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t inverso(int x)//inverso(123) entrega 3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1263600" y="793800"/>
          <a:ext cx="705024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3600" y="793800"/>
                    <a:ext cx="705024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1039680" y="779400"/>
          <a:ext cx="7496280" cy="591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779400"/>
                    <a:ext cx="7496280" cy="59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1336680" y="952560"/>
          <a:ext cx="5294160" cy="483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6680" y="952560"/>
                    <a:ext cx="5294160" cy="48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770040" y="480960"/>
          <a:ext cx="8169120" cy="628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0040" y="480960"/>
                    <a:ext cx="8169120" cy="62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4"/>
          <p:cNvGraphicFramePr/>
          <p:nvPr/>
        </p:nvGraphicFramePr>
        <p:xfrm>
          <a:off x="770040" y="480960"/>
          <a:ext cx="8024760" cy="644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0040" y="480960"/>
                    <a:ext cx="8024760" cy="64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746280" y="588960"/>
          <a:ext cx="8145360" cy="754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280" y="588960"/>
                    <a:ext cx="8145360" cy="754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915840" y="619200"/>
          <a:ext cx="7372440" cy="623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619200"/>
                    <a:ext cx="7372440" cy="62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2"/>
          <p:cNvGraphicFramePr/>
          <p:nvPr/>
        </p:nvGraphicFramePr>
        <p:xfrm>
          <a:off x="1130400" y="927000"/>
          <a:ext cx="7351560" cy="526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927000"/>
                    <a:ext cx="7351560" cy="52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9:33:58Z</dcterms:created>
  <dc:creator>jpino</dc:creator>
  <dc:description/>
  <dc:language>en-US</dc:language>
  <cp:lastModifiedBy>jpino</cp:lastModifiedBy>
  <cp:lastPrinted>2006-03-22T18:37:38Z</cp:lastPrinted>
  <dcterms:modified xsi:type="dcterms:W3CDTF">2010-04-06T14:33:57Z</dcterms:modified>
  <cp:revision>32</cp:revision>
  <dc:subject/>
  <dc:title>recursion</dc:title>
</cp:coreProperties>
</file>