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lase 5: Recurs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29880" y="739800"/>
            <a:ext cx="4938840" cy="3703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J.A. Pino: recurs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EA7BB-DFFB-4A21-BBA8-40A76B2845EF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2"/>
          <p:cNvSpPr/>
          <p:nvPr/>
        </p:nvSpPr>
        <p:spPr>
          <a:xfrm>
            <a:off x="0" y="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lase 5: Recurs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J.A. Pino: recurs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F9003-E549-4034-9276-4DF235E07D3D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8C3AD-AAEA-4DC6-85C9-1AD88D66B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B79E2-4FE3-4396-9781-34F65B1E6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4914F-6402-46AF-AEA2-4C0767CBE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75451-7CC3-46BE-BE4B-27627977E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5C98B-CA8C-46D3-8F86-71D8922EF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CB341-DF4A-491D-91BA-31E321D15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CFDDB-1AA5-4B02-8D3F-1C555F4E0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0EF75-F2C2-4AE0-8E5B-26A8A68E0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E94C8-F64B-45FA-B6E5-349042921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4AF39-9666-4E2F-8392-6669B78B2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33623-8AA4-4B20-B6B4-4B118D613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4E5E9-E877-42CE-90D1-242AA3855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3F52F-FCA8-4540-8B23-880671C40E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Object 2"/>
          <p:cNvGraphicFramePr/>
          <p:nvPr/>
        </p:nvGraphicFramePr>
        <p:xfrm>
          <a:off x="1095480" y="601560"/>
          <a:ext cx="7315200" cy="7628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95480" y="601560"/>
                    <a:ext cx="7315200" cy="762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Object 3"/>
          <p:cNvGraphicFramePr/>
          <p:nvPr/>
        </p:nvGraphicFramePr>
        <p:xfrm>
          <a:off x="793800" y="722160"/>
          <a:ext cx="8121600" cy="6172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3800" y="722160"/>
                    <a:ext cx="8121600" cy="617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Object 2"/>
          <p:cNvGraphicFramePr/>
          <p:nvPr/>
        </p:nvGraphicFramePr>
        <p:xfrm>
          <a:off x="766800" y="681120"/>
          <a:ext cx="7991280" cy="7075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6800" y="681120"/>
                    <a:ext cx="7991280" cy="707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Object 2"/>
          <p:cNvGraphicFramePr/>
          <p:nvPr/>
        </p:nvGraphicFramePr>
        <p:xfrm>
          <a:off x="743040" y="803160"/>
          <a:ext cx="7904160" cy="5245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3040" y="803160"/>
                    <a:ext cx="7904160" cy="524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Object 2"/>
          <p:cNvGraphicFramePr/>
          <p:nvPr/>
        </p:nvGraphicFramePr>
        <p:xfrm>
          <a:off x="430200" y="457200"/>
          <a:ext cx="8659800" cy="6253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0200" y="457200"/>
                    <a:ext cx="8659800" cy="625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Object 2"/>
          <p:cNvGraphicFramePr/>
          <p:nvPr/>
        </p:nvGraphicFramePr>
        <p:xfrm>
          <a:off x="496800" y="646200"/>
          <a:ext cx="8472600" cy="6804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6800" y="646200"/>
                    <a:ext cx="8472600" cy="680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Object 4"/>
          <p:cNvGraphicFramePr/>
          <p:nvPr/>
        </p:nvGraphicFramePr>
        <p:xfrm>
          <a:off x="538200" y="484200"/>
          <a:ext cx="8458200" cy="7207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8200" y="484200"/>
                    <a:ext cx="8458200" cy="720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Object 5"/>
          <p:cNvGraphicFramePr/>
          <p:nvPr/>
        </p:nvGraphicFramePr>
        <p:xfrm>
          <a:off x="550800" y="511200"/>
          <a:ext cx="8337600" cy="6816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0800" y="511200"/>
                    <a:ext cx="8337600" cy="681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Object 4"/>
          <p:cNvGraphicFramePr/>
          <p:nvPr/>
        </p:nvGraphicFramePr>
        <p:xfrm>
          <a:off x="550800" y="511200"/>
          <a:ext cx="8096400" cy="6613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0800" y="511200"/>
                    <a:ext cx="8096400" cy="661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roblemas propuest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5"/>
          <p:cNvSpPr/>
          <p:nvPr/>
        </p:nvSpPr>
        <p:spPr>
          <a:xfrm>
            <a:off x="685800" y="1989000"/>
            <a:ext cx="8207280" cy="41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nt permutaciones(int x,int y) //x!/(x-y)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nt combinaciones(int x,int y) //x!/(y!(x-y)!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nt fibonacci(int i)//entrega i-ésimo nº de Fibonacc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nros: 0, 1, 1, 2, 3, 5, 8, 13, 21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nt inverso(int x)//inverso(123) entrega 32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Object 2"/>
          <p:cNvGraphicFramePr/>
          <p:nvPr/>
        </p:nvGraphicFramePr>
        <p:xfrm>
          <a:off x="1263600" y="793800"/>
          <a:ext cx="7050240" cy="5378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63600" y="793800"/>
                    <a:ext cx="7050240" cy="537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Object 2"/>
          <p:cNvGraphicFramePr/>
          <p:nvPr/>
        </p:nvGraphicFramePr>
        <p:xfrm>
          <a:off x="1039680" y="779400"/>
          <a:ext cx="7496280" cy="5913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39680" y="779400"/>
                    <a:ext cx="7496280" cy="591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Object 2"/>
          <p:cNvGraphicFramePr/>
          <p:nvPr/>
        </p:nvGraphicFramePr>
        <p:xfrm>
          <a:off x="1336680" y="952560"/>
          <a:ext cx="5294160" cy="4836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6680" y="952560"/>
                    <a:ext cx="5294160" cy="483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Object 2"/>
          <p:cNvGraphicFramePr/>
          <p:nvPr/>
        </p:nvGraphicFramePr>
        <p:xfrm>
          <a:off x="770040" y="480960"/>
          <a:ext cx="8169120" cy="6280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0040" y="480960"/>
                    <a:ext cx="8169120" cy="628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Object 4"/>
          <p:cNvGraphicFramePr/>
          <p:nvPr/>
        </p:nvGraphicFramePr>
        <p:xfrm>
          <a:off x="770040" y="480960"/>
          <a:ext cx="8024760" cy="6448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0040" y="480960"/>
                    <a:ext cx="8024760" cy="644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Object 2"/>
          <p:cNvGraphicFramePr/>
          <p:nvPr/>
        </p:nvGraphicFramePr>
        <p:xfrm>
          <a:off x="746280" y="588960"/>
          <a:ext cx="8145360" cy="7543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6280" y="588960"/>
                    <a:ext cx="8145360" cy="754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Object 2"/>
          <p:cNvGraphicFramePr/>
          <p:nvPr/>
        </p:nvGraphicFramePr>
        <p:xfrm>
          <a:off x="915840" y="619200"/>
          <a:ext cx="7372440" cy="6234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5840" y="619200"/>
                    <a:ext cx="7372440" cy="62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Object 2"/>
          <p:cNvGraphicFramePr/>
          <p:nvPr/>
        </p:nvGraphicFramePr>
        <p:xfrm>
          <a:off x="1130400" y="927000"/>
          <a:ext cx="7351560" cy="5268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30400" y="927000"/>
                    <a:ext cx="7351560" cy="526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2T19:33:58Z</dcterms:created>
  <dc:creator>jpino</dc:creator>
  <dc:description/>
  <dc:language>en-US</dc:language>
  <cp:lastModifiedBy>jpino</cp:lastModifiedBy>
  <cp:lastPrinted>2006-03-22T18:37:38Z</cp:lastPrinted>
  <dcterms:modified xsi:type="dcterms:W3CDTF">2010-04-06T14:33:57Z</dcterms:modified>
  <cp:revision>32</cp:revision>
  <dc:subject/>
  <dc:title>recursion</dc:title>
</cp:coreProperties>
</file>