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D8A6-94B2-4834-8297-EE7A7C987D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587-8793-43D3-9D45-1FE4274E76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226-987D-452B-8672-DD2008C6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1496-59C4-4C4E-BEE5-962B4D2D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986-18D6-4ECE-8C1D-DB0545C61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AC2-C349-4CB4-8EB2-6FFEC9D7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EE8-9F80-48C3-9406-AA28953A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A2C2-F188-4EC7-820E-C8D4DD8D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073D-3051-468D-ACF7-73D5DE42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826C-D49C-4A14-A88F-C12AC0B4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65B-EECC-4EDE-949D-33A2B880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791E-927D-4C61-9B70-B30F3CE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4D-958E-4738-AEF5-FE12F2F2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C4B-10AE-46E3-8739-CC727745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6F95-B412-42D5-B704-EC5FC3FFB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0200" y="457200"/>
          <a:ext cx="8659800" cy="625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57200"/>
                    <a:ext cx="86598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496800" y="646200"/>
          <a:ext cx="84726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646200"/>
                    <a:ext cx="84726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38200" y="484200"/>
          <a:ext cx="8458200" cy="720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84200"/>
                    <a:ext cx="8458200" cy="720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337600" cy="681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337600" cy="68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96400" cy="661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96400" cy="661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permutaciones(int x,int y) //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combinaciones(int x,int y) //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fibonacci(int i)//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 inverso(int x)//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6-03-22T18:37:38Z</cp:lastPrinted>
  <dcterms:modified xsi:type="dcterms:W3CDTF">2010-04-06T14:33:57Z</dcterms:modified>
  <cp:revision>32</cp:revision>
  <dc:subject/>
  <dc:title>recursion</dc:title>
</cp:coreProperties>
</file>