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97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1960" y="740880"/>
            <a:ext cx="493884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: while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97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C5941FD-FC84-4451-BB83-3CF21157EF8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: while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38840" cy="37054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38840" cy="37054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4 Marcador de pie de página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: while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: while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38840" cy="37054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8AD8-81F1-4C80-BAE3-C5551514C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A93F-C43D-4A86-BE8D-5FEA37ED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7DB9-6291-444B-90DB-04735EE66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1036-C9C7-42A2-BBB8-23080392E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5F73-5FB4-415F-8D86-AD9EB34D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F623-4A9A-4D1F-BC9D-4D9BEFF4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7B79-159F-4E25-BEA6-B3A42725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A5F6-A491-4B2C-B928-ABED920C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6B73-2B89-4A18-949E-5BCF7163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E425-D8C5-4075-921E-FE37FD9C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46F6-B797-42DF-AE94-75F0317C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CDC1-08F3-4E30-8FE3-1D6B3E1C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265A-8113-45AB-8AD7-DF802426C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992160" y="770040"/>
          <a:ext cx="75247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770040"/>
                    <a:ext cx="75247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870120" y="568440"/>
          <a:ext cx="7732440" cy="547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0120" y="568440"/>
                    <a:ext cx="773244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736560" y="550800"/>
          <a:ext cx="8194680" cy="61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550800"/>
                    <a:ext cx="8194680" cy="61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187280" y="806400"/>
          <a:ext cx="6624720" cy="6066000"/>
        </p:xfrm>
        <a:graphic>
          <a:graphicData uri="http://schemas.openxmlformats.org/drawingml/2006/table">
            <a:tbl>
              <a:tblPr/>
              <a:tblGrid>
                <a:gridCol w="619200"/>
                <a:gridCol w="4205520"/>
                <a:gridCol w="1800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ble suma=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 n=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ble numero=U.readDouble(“…”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umero!=0)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suma+numero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.println(…n…suma/n…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U.readDouble(“…”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5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umero!=0)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suma+numero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1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.println(…n…suma/n…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 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U.readDouble(“…”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umero!=0)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Text Box 148"/>
          <p:cNvSpPr/>
          <p:nvPr/>
        </p:nvSpPr>
        <p:spPr>
          <a:xfrm>
            <a:off x="3184560" y="136440"/>
            <a:ext cx="35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49"/>
          <p:cNvSpPr/>
          <p:nvPr/>
        </p:nvSpPr>
        <p:spPr>
          <a:xfrm>
            <a:off x="2700360" y="260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4"/>
          <p:cNvGraphicFramePr/>
          <p:nvPr/>
        </p:nvGraphicFramePr>
        <p:xfrm>
          <a:off x="479520" y="444600"/>
          <a:ext cx="8478720" cy="706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444600"/>
                    <a:ext cx="8478720" cy="70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4"/>
          <p:cNvGraphicFramePr/>
          <p:nvPr/>
        </p:nvGraphicFramePr>
        <p:xfrm>
          <a:off x="1092240" y="595440"/>
          <a:ext cx="7634160" cy="58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595440"/>
                    <a:ext cx="763416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4"/>
          <p:cNvGraphicFramePr/>
          <p:nvPr/>
        </p:nvGraphicFramePr>
        <p:xfrm>
          <a:off x="712800" y="592200"/>
          <a:ext cx="7005600" cy="580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0" y="592200"/>
                    <a:ext cx="7005600" cy="58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4"/>
          <p:cNvGraphicFramePr/>
          <p:nvPr/>
        </p:nvGraphicFramePr>
        <p:xfrm>
          <a:off x="709560" y="595440"/>
          <a:ext cx="746604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595440"/>
                    <a:ext cx="746604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4"/>
          <p:cNvGraphicFramePr/>
          <p:nvPr/>
        </p:nvGraphicFramePr>
        <p:xfrm>
          <a:off x="390600" y="355680"/>
          <a:ext cx="8558280" cy="64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355680"/>
                    <a:ext cx="8558280" cy="64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Object 4"/>
          <p:cNvGraphicFramePr/>
          <p:nvPr/>
        </p:nvGraphicFramePr>
        <p:xfrm>
          <a:off x="399960" y="257040"/>
          <a:ext cx="8309160" cy="695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257040"/>
                    <a:ext cx="8309160" cy="695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380880" y="345960"/>
          <a:ext cx="8602920" cy="61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45960"/>
                    <a:ext cx="860292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3"/>
          <p:cNvGraphicFramePr/>
          <p:nvPr/>
        </p:nvGraphicFramePr>
        <p:xfrm>
          <a:off x="988920" y="655560"/>
          <a:ext cx="733608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55560"/>
                    <a:ext cx="733608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630360" y="630360"/>
          <a:ext cx="8202600" cy="576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630360"/>
                    <a:ext cx="820260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1981080"/>
          <a:ext cx="7918560" cy="414504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 n=2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3"/>
          <p:cNvGraphicFramePr/>
          <p:nvPr/>
        </p:nvGraphicFramePr>
        <p:xfrm>
          <a:off x="517680" y="517680"/>
          <a:ext cx="83502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3502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390600" y="444600"/>
          <a:ext cx="8585280" cy="690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44600"/>
                    <a:ext cx="8585280" cy="69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511200" y="523800"/>
          <a:ext cx="8350200" cy="585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23800"/>
                    <a:ext cx="8350200" cy="58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pino</dc:creator>
  <dc:description/>
  <dc:language>en-US</dc:language>
  <cp:lastModifiedBy>jpino</cp:lastModifiedBy>
  <cp:lastPrinted>2005-01-12T14:41:26Z</cp:lastPrinted>
  <dcterms:modified xsi:type="dcterms:W3CDTF">2010-04-01T12:05:11Z</dcterms:modified>
  <cp:revision>55</cp:revision>
  <dc:subject/>
  <dc:title>while</dc:title>
</cp:coreProperties>
</file>