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3884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2EF3FA8-68CE-44FE-911A-8A4B5E64DE6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74ED-72D6-42B9-B053-24EDE840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AF0-9FC3-4F14-9E0B-2375D0B1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22A-5B2F-4370-A1BC-4CC43ED8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595-8853-4562-8A9D-549AFCCA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EC0-127E-4DF1-BC76-A9CF96AF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928-30DB-4A4D-B100-0EC8A996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E95-C221-41E7-955C-1EE96943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F28-2151-4B67-9452-BE3F7C50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7FA-9FB9-41A8-8053-341F668E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733-7198-4D62-9B3B-8A8472B1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EE7-21BD-4281-A5BB-9DD90422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2EFD-4347-40C0-98FB-C863211B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E2DF-251F-4651-AF30-BB94A588C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870120" y="568440"/>
          <a:ext cx="773244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568440"/>
                    <a:ext cx="7732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736560" y="550800"/>
          <a:ext cx="819468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550800"/>
                    <a:ext cx="819468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87280" y="806400"/>
          <a:ext cx="6624720" cy="6066000"/>
        </p:xfrm>
        <a:graphic>
          <a:graphicData uri="http://schemas.openxmlformats.org/drawingml/2006/table">
            <a:tbl>
              <a:tblPr/>
              <a:tblGrid>
                <a:gridCol w="619200"/>
                <a:gridCol w="4205520"/>
                <a:gridCol w="1800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uma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479520" y="444600"/>
          <a:ext cx="847872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444600"/>
                    <a:ext cx="847872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1092240" y="595440"/>
          <a:ext cx="76341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595440"/>
                    <a:ext cx="76341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709560" y="595440"/>
          <a:ext cx="746604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595440"/>
                    <a:ext cx="746604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4"/>
          <p:cNvGraphicFramePr/>
          <p:nvPr/>
        </p:nvGraphicFramePr>
        <p:xfrm>
          <a:off x="390600" y="355680"/>
          <a:ext cx="8558280" cy="64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55680"/>
                    <a:ext cx="85582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4"/>
          <p:cNvGraphicFramePr/>
          <p:nvPr/>
        </p:nvGraphicFramePr>
        <p:xfrm>
          <a:off x="399960" y="257040"/>
          <a:ext cx="8309160" cy="695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57040"/>
                    <a:ext cx="8309160" cy="695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80880" y="345960"/>
          <a:ext cx="8602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45960"/>
                    <a:ext cx="8602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3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3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pino</dc:creator>
  <dc:description/>
  <dc:language>en-US</dc:language>
  <cp:lastModifiedBy>jpino</cp:lastModifiedBy>
  <cp:lastPrinted>2005-01-12T14:41:26Z</cp:lastPrinted>
  <dcterms:modified xsi:type="dcterms:W3CDTF">2010-04-01T12:05:11Z</dcterms:modified>
  <cp:revision>55</cp:revision>
  <dc:subject/>
  <dc:title>while</dc:title>
</cp:coreProperties>
</file>