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0880"/>
            <a:ext cx="493884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499F45-BDC8-43F3-9814-9227937D8B5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3 Marcador de encabezado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4 Marcador de pie de página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while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22320" y="741240"/>
            <a:ext cx="4938840" cy="37054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79320" y="4694040"/>
            <a:ext cx="54244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985-2328-4689-B75D-FFF9AE7C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32B-2540-4864-916B-BE7043CB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E86-6AC5-4A82-B2C0-A73DF308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7488-CE87-4D54-82DA-E3B5F816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5A75-4795-4EED-A945-BDECF849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D0C-B74A-4101-B394-97147A42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9CE-2AB2-4547-83EA-A1C5990E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AE9-06E1-425C-8483-F628CE4F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B66-66CB-4082-8572-20EC1248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A879-C6BC-4B86-9A74-D3966015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B74-C3D5-4BCE-AA4A-10F9EEE6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ACE-3560-4EE6-A96D-A050C8E2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9521-67FC-4462-BD28-507E806F2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870120" y="568440"/>
          <a:ext cx="773244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568440"/>
                    <a:ext cx="7732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736560" y="550800"/>
          <a:ext cx="819468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550800"/>
                    <a:ext cx="819468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187280" y="806400"/>
          <a:ext cx="6624720" cy="6066000"/>
        </p:xfrm>
        <a:graphic>
          <a:graphicData uri="http://schemas.openxmlformats.org/drawingml/2006/table">
            <a:tbl>
              <a:tblPr/>
              <a:tblGrid>
                <a:gridCol w="619200"/>
                <a:gridCol w="4205520"/>
                <a:gridCol w="1800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uma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479520" y="444600"/>
          <a:ext cx="847872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444600"/>
                    <a:ext cx="847872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1092240" y="595440"/>
          <a:ext cx="76341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595440"/>
                    <a:ext cx="76341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709560" y="595440"/>
          <a:ext cx="746604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595440"/>
                    <a:ext cx="746604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4"/>
          <p:cNvGraphicFramePr/>
          <p:nvPr/>
        </p:nvGraphicFramePr>
        <p:xfrm>
          <a:off x="390600" y="355680"/>
          <a:ext cx="8558280" cy="64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55680"/>
                    <a:ext cx="85582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4"/>
          <p:cNvGraphicFramePr/>
          <p:nvPr/>
        </p:nvGraphicFramePr>
        <p:xfrm>
          <a:off x="399960" y="257040"/>
          <a:ext cx="8309160" cy="695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57040"/>
                    <a:ext cx="8309160" cy="695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80880" y="345960"/>
          <a:ext cx="8602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45960"/>
                    <a:ext cx="8602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3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3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pino</dc:creator>
  <dc:description/>
  <dc:language>en-US</dc:language>
  <cp:lastModifiedBy>jpino</cp:lastModifiedBy>
  <cp:lastPrinted>2005-01-12T14:41:26Z</cp:lastPrinted>
  <dcterms:modified xsi:type="dcterms:W3CDTF">2010-04-01T12:05:11Z</dcterms:modified>
  <cp:revision>55</cp:revision>
  <dc:subject/>
  <dc:title>while</dc:title>
</cp:coreProperties>
</file>