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3884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362389-FDA8-48F4-9B88-CBCDE6A55D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ECE-67F8-46D2-AD66-F05B3D10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08F-B566-4AC9-AC40-2F9D60EA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832-D4FB-4C60-9A35-5EF26EE4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C3C-BCF5-42D6-B6D6-2FC71AB4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B18-D515-4D00-8A80-EF19E7D9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C268-6901-4FE5-882E-AEC63847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072-D7A8-49D4-8C35-658E1F77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3AF-949D-43B0-A691-A1A8D22F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8471-B668-4192-97B8-4A2F8DEF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AC6-4508-4FEF-9AF8-508EABE2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6CE-68FC-4892-9390-02045FCE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594-8CBC-4D28-9B7C-B019A3CC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B54B-E670-4DB2-951F-CAD6834A1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806400"/>
          <a:ext cx="6624720" cy="6066000"/>
        </p:xfrm>
        <a:graphic>
          <a:graphicData uri="http://schemas.openxmlformats.org/drawingml/2006/table">
            <a:tbl>
              <a:tblPr/>
              <a:tblGrid>
                <a:gridCol w="619200"/>
                <a:gridCol w="4205520"/>
                <a:gridCol w="180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3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3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pino</dc:creator>
  <dc:description/>
  <dc:language>en-US</dc:language>
  <cp:lastModifiedBy>jpino</cp:lastModifiedBy>
  <cp:lastPrinted>2005-01-12T14:41:26Z</cp:lastPrinted>
  <dcterms:modified xsi:type="dcterms:W3CDTF">2010-04-01T12:05:11Z</dcterms:modified>
  <cp:revision>55</cp:revision>
  <dc:subject/>
  <dc:title>while</dc:title>
</cp:coreProperties>
</file>