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332D-35B0-41F7-8BED-375DE8C0D4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971F-8CF7-4AF9-8B2E-33468B14B8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A72B-9C06-4F88-BA74-36E1C81DE3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473-2083-4A63-98C9-0C037CC766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3EE5-176B-4665-8ADC-BC686679BE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D21C-9152-4389-9836-5BD8A9B856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E6A9-2ADA-4BC5-8281-0A7E08035F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1F3D-4931-4E58-AB0D-E433A9F038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2836-5137-42E1-8D4B-F90E67FBF0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9AAA-4E2D-41F8-BAA1-9519D0CA02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0D0F-EA92-4A73-8248-70BE3710A7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BEDD-6118-41DC-86F2-B0076E9511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1016-4162-4842-9980-4653872F69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113A-407B-446F-B206-2F738FEAE5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92B2-9ED6-44B8-9B5A-4A2B601B6B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AF58-8CFB-4329-B972-961E605141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9200-3F5E-4E86-AFEB-40A1941005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F2C6-3931-495A-BB42-5E813D6FC3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F894-A32E-4EF9-94B9-A1865EA6E1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587-AFF9-40FB-A829-817F0F13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560-EBA1-418C-BECD-C39CCCEA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668-A1F6-49DC-B634-5B33948B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9CF-3F11-4B3A-95EA-505A3AA8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2DA-F0B6-42C0-85AE-D3025FE4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3B1-DF33-4D36-9FFB-A0804354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928-9995-4307-BC6E-62419DF2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BA5-1D19-4B43-8128-540AF130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D9A-C367-4643-B5E8-476AD194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09E-9485-4B6F-8376-A1280D7F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CF2-5EB0-4237-809D-1A179298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3E9-8E0C-487D-AA3A-ABCC0426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3C1C-1BFD-41E7-9185-F581A9C8B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8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pino</dc:creator>
  <dc:description/>
  <dc:language>en-US</dc:language>
  <cp:lastModifiedBy>jpino</cp:lastModifiedBy>
  <cp:lastPrinted>2006-03-17T17:08:51Z</cp:lastPrinted>
  <dcterms:modified xsi:type="dcterms:W3CDTF">2010-03-29T13:55:13Z</dcterms:modified>
  <cp:revision>40</cp:revision>
  <dc:subject/>
  <dc:title>Sin título de diapositiva</dc:title>
</cp:coreProperties>
</file>