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2F3-C9E8-4F68-AD31-118DDE84C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4D17-236A-4F66-B8B4-774988DFF6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871-7625-4984-9822-5094407094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3177-BB3B-4811-94A9-475A4BD2CE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F69-4C77-4F13-B793-B7971D9EFC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972-4E10-41D4-88DD-B7A20C522E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2AB-0490-42F2-990E-FD41B57CA8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183C-507D-40BE-AE21-42FB000B83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E4DB-5741-46BA-ACB0-19CA477C62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270-C2CA-4142-9CBE-A9719E30EA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219B-6E1B-474E-9A93-F14EF2300E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5CE5-3B05-4E39-A838-FA98ADE217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6C7-0972-4BFE-BD3F-5DFD14CCCE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EB2E-E12C-4C48-A92E-70FEF9F2E3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CF4-DC0C-4D10-8A52-42C86D8FA2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6E8-F3A6-467D-A665-B9E4F737E4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75B-6F7B-4651-8A97-95E1AFB241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700-56EA-4803-8EAD-FA1EC96888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4F2-E933-4B85-AE1E-25F7D3334F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6BF-AA6F-4F8B-9550-B389FC57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931-C78A-46E5-BA35-83B9416E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EDF-A1D4-4993-AB5F-60A88BE0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C22-8448-403B-91AA-E5F9F696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581-E2F7-4AB4-97F7-73A4D953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98F-7027-4799-BBDF-CC5E6163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1CC-D3EC-4E3C-92B2-1D3705B9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A8B-5607-4C5B-8A40-0415057F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EAB-BF00-4309-B848-6D265794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DD-72EA-45A2-A0B3-4738FA88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E6D-FAB9-4283-8D4D-DFC6031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8DA-61F6-4789-B35B-170CB76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B01-101E-4006-9355-74B1383C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pino</dc:creator>
  <dc:description/>
  <dc:language>en-US</dc:language>
  <cp:lastModifiedBy>jpino</cp:lastModifiedBy>
  <cp:lastPrinted>2006-03-17T17:08:51Z</cp:lastPrinted>
  <dcterms:modified xsi:type="dcterms:W3CDTF">2010-03-29T13:55:13Z</dcterms:modified>
  <cp:revision>40</cp:revision>
  <dc:subject/>
  <dc:title>Sin título de diapositiva</dc:title>
</cp:coreProperties>
</file>