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C62B-0EC3-4354-8813-54E786E21F4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E225-2347-4C96-B000-2E659ED503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3A3-0AA4-4D03-B252-86944585B7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601E-1AE3-41DE-90F5-5865F0001D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C67D-C700-4A1A-B9C1-7C893860BA2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896-1E29-46BB-B13B-2EC6935237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936-B9D3-4B3E-ACEA-E560898AF4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C500-23A0-468A-A537-5B218AC0FC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59F5-D2ED-4674-A112-A494FAD651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CC52-6D9F-4F01-927D-50A648A6F2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91FA-E2DF-4F84-850F-9404EC7ACA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5635-D1EC-4D66-9010-07D3AA736B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3A8-04DD-46E6-9EAA-175A299E14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047-F974-443F-90F0-2822395502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47E9-F4D6-4C86-A639-5BB0732B2D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79A8-E60C-4C43-B8C4-7E71BC2306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82AC-60AC-49AD-9E08-4BC058E60A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57A2-8BEE-417A-9A09-74FD8C4BD3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:  instrucción if-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30BB-4884-49B9-89DF-A2E887C2F0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D9A-A01F-4CF0-A9B9-17DD5681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9EC-167C-4D01-BBB0-9B62F313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2DA-FA64-4D15-86E2-BC048B3D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B66-C33A-40CC-8C51-43BA85E6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269-C8EC-412F-A7A1-D279A84A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6DF-3938-42CF-BE03-E823821C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173-83C0-400D-9680-FBDACDB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6FA-96F7-46D9-9151-4507AC96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ECD-F119-480C-944D-944A4514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4E3-9981-4FE1-AE32-19B9BC4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D43-CA83-43B2-A459-EDB69636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55A-956C-403F-91C0-8BFB8D5A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5EC8-597F-4110-B8B4-009FD985C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35200" y="496800"/>
          <a:ext cx="7775280" cy="61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496800"/>
                    <a:ext cx="7775280" cy="61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506520" y="407880"/>
          <a:ext cx="8184960" cy="65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407880"/>
                    <a:ext cx="818496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58720" y="399960"/>
          <a:ext cx="8221680" cy="637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399960"/>
                    <a:ext cx="822168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1020600" y="754200"/>
          <a:ext cx="7209000" cy="52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754200"/>
                    <a:ext cx="7209000" cy="52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468360" y="292680"/>
            <a:ext cx="842472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2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cribir una función que reciba dos enteros y entregue el mayor de los dos (sin usar Math.max). Ej: int m = mayor(a,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1055520" y="684360"/>
          <a:ext cx="767088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684360"/>
                    <a:ext cx="767088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4"/>
          <p:cNvGraphicFramePr/>
          <p:nvPr/>
        </p:nvGraphicFramePr>
        <p:xfrm>
          <a:off x="434880" y="274680"/>
          <a:ext cx="798984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274680"/>
                    <a:ext cx="798984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Line 8"/>
          <p:cNvSpPr/>
          <p:nvPr/>
        </p:nvSpPr>
        <p:spPr>
          <a:xfrm>
            <a:off x="622764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850920" y="63086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425520" y="345960"/>
          <a:ext cx="8345520" cy="689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5960"/>
                    <a:ext cx="8345520" cy="689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pino</dc:creator>
  <dc:description/>
  <dc:language>en-US</dc:language>
  <cp:lastModifiedBy>jpino</cp:lastModifiedBy>
  <cp:lastPrinted>2006-03-17T17:08:51Z</cp:lastPrinted>
  <dcterms:modified xsi:type="dcterms:W3CDTF">2010-03-29T13:55:13Z</dcterms:modified>
  <cp:revision>40</cp:revision>
  <dc:subject/>
  <dc:title>Sin título de diapositiva</dc:title>
</cp:coreProperties>
</file>