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664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38664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0885-6EC9-4E9F-960C-087A49D5436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17E6-515C-4C0A-8782-01134A5336D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3894-7652-42F0-A1AF-53F90CCA4FB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A988-F5C4-4B4F-9E37-D4D3075F767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9EB8-635D-474B-857E-BFC190EAD04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5848-649E-4E5D-8323-2AD8F9A9FC1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6DFD-1F2F-4789-AC69-ED3E457FBE5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1A04-289E-481A-BD12-CD29C9CD7D2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BAE8-169C-46A1-AD43-2EFEB9AB00E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F684-D4C1-4B5A-BE54-54A8F20E7B5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5849-7590-4977-84EC-BAC3FFF1D6D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4EBC-4431-40D4-A514-F27F8591E84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D802-DA67-4881-8C08-26F1E7005DB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F0CC-4549-4A01-9F87-7C42C7197F3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AE83-2990-48FB-99AD-D49D6AC7E87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20B0-E84E-4E14-BCED-DCD99C7EFC4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41B6-E7A3-47E5-A506-5D7FA6EF890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A0A3-AF56-40EE-A950-13C93561577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1725-6127-4981-AE66-6E869E9E693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D3C0-2E26-4079-A236-110C8825A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F1EA-05BB-49FA-A90A-7C738F60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537B-E7C8-4D26-A360-294C73407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FB86-102D-41BD-A97D-033BB62C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D09C-A907-4669-97A3-21FDE90E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BCC3-4E4E-49A9-AF45-CEF916EE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A6B6-D868-4324-BB19-4438638D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DF48-7EB3-481F-8334-3295CFAB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D874-9D7E-4B47-A837-25EFFE31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7B5D-0BA6-46A8-A144-6CC9CB75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14FE-6EFA-4F22-AE13-AA9FB25E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45DE-13AC-4E30-914D-E7569094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7430-E3FE-477E-A949-9AC163ECF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835200" y="496800"/>
          <a:ext cx="7775280" cy="61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496800"/>
                    <a:ext cx="7775280" cy="61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4"/>
          <p:cNvGraphicFramePr/>
          <p:nvPr/>
        </p:nvGraphicFramePr>
        <p:xfrm>
          <a:off x="506520" y="407880"/>
          <a:ext cx="8184960" cy="651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407880"/>
                    <a:ext cx="8184960" cy="65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558720" y="399960"/>
          <a:ext cx="8221680" cy="637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399960"/>
                    <a:ext cx="8221680" cy="63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2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4"/>
          <p:cNvGraphicFramePr/>
          <p:nvPr/>
        </p:nvGraphicFramePr>
        <p:xfrm>
          <a:off x="1020600" y="754200"/>
          <a:ext cx="7209000" cy="520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0600" y="754200"/>
                    <a:ext cx="7209000" cy="52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4"/>
          <p:cNvGraphicFramePr/>
          <p:nvPr/>
        </p:nvGraphicFramePr>
        <p:xfrm>
          <a:off x="698400" y="457200"/>
          <a:ext cx="7940880" cy="64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457200"/>
                    <a:ext cx="7940880" cy="64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4"/>
          <p:cNvGraphicFramePr/>
          <p:nvPr/>
        </p:nvGraphicFramePr>
        <p:xfrm>
          <a:off x="601560" y="469800"/>
          <a:ext cx="8337600" cy="655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469800"/>
                    <a:ext cx="8337600" cy="65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4"/>
          <p:cNvGraphicFramePr/>
          <p:nvPr/>
        </p:nvGraphicFramePr>
        <p:xfrm>
          <a:off x="709560" y="433440"/>
          <a:ext cx="7845480" cy="69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433440"/>
                    <a:ext cx="784548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901800" y="698400"/>
          <a:ext cx="7532640" cy="696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698400"/>
                    <a:ext cx="7532640" cy="69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2"/>
          <p:cNvGraphicFramePr/>
          <p:nvPr/>
        </p:nvGraphicFramePr>
        <p:xfrm>
          <a:off x="638280" y="746280"/>
          <a:ext cx="8361360" cy="75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746280"/>
                    <a:ext cx="8361360" cy="75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468360" y="292680"/>
            <a:ext cx="8424720" cy="64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2.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cribir una función que reciba dos enteros y entregue el mayor de los dos (sin usar Math.max). Ej: int m = mayor(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nt x, 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1055520" y="684360"/>
          <a:ext cx="7670880" cy="681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5520" y="684360"/>
                    <a:ext cx="7670880" cy="68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914400" y="517680"/>
          <a:ext cx="725472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2547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4"/>
          <p:cNvGraphicFramePr/>
          <p:nvPr/>
        </p:nvGraphicFramePr>
        <p:xfrm>
          <a:off x="434880" y="274680"/>
          <a:ext cx="7989840" cy="646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274680"/>
                    <a:ext cx="7989840" cy="64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Line 8"/>
          <p:cNvSpPr/>
          <p:nvPr/>
        </p:nvSpPr>
        <p:spPr>
          <a:xfrm>
            <a:off x="6227640" y="407664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9"/>
          <p:cNvSpPr/>
          <p:nvPr/>
        </p:nvSpPr>
        <p:spPr>
          <a:xfrm flipH="1">
            <a:off x="3850920" y="630864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1058760" y="806400"/>
          <a:ext cx="7543800" cy="54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806400"/>
                    <a:ext cx="754380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425520" y="345960"/>
          <a:ext cx="8345520" cy="689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5960"/>
                    <a:ext cx="8345520" cy="689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pino</dc:creator>
  <dc:description/>
  <dc:language>en-US</dc:language>
  <cp:lastModifiedBy>jpino</cp:lastModifiedBy>
  <cp:lastPrinted>2006-03-17T17:08:51Z</cp:lastPrinted>
  <dcterms:modified xsi:type="dcterms:W3CDTF">2010-03-29T13:55:13Z</dcterms:modified>
  <cp:revision>40</cp:revision>
  <dc:subject/>
  <dc:title>Sin título de diapositiva</dc:title>
</cp:coreProperties>
</file>