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51E5-AAE1-446F-8620-38B1D757C4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432E-99AA-43C0-99B8-B4EE9B2369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451F-FAF7-4C9E-9761-18861721A7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692D-EA36-40AF-AC8F-3B40A3B99B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7CC1-B33C-440C-872D-80E6C1421C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B45-5295-4175-8B53-B279C424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910-88C4-4040-8850-7F4B8E9A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7A0-C401-4DA4-8C12-D4F7F584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323-0E7B-48EB-A981-AD430984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183-6FFB-43CC-B532-BD2F2BF7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399-F9C6-490B-9E54-62365E19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565-36EC-447A-B81B-6CD21161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962-B22A-4136-A024-FE3D85AA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B56-4B59-49C2-9C10-3A9E5EF4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129-115C-461B-844E-05D935AF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1F6-DE0A-405D-9B47-B3A030D2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B27-1C6E-4E9D-972D-6B5A61CA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4551-CF9C-4E01-B81C-39895C807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parcial de ejercicio adicion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Área y perímet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hacerlo, si aún no lo ha intentado; hoy veremos algo similar en el resto de la cl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s de diversos tipos de colegios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8000" y="493560"/>
          <a:ext cx="86785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6785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378000" y="493560"/>
          <a:ext cx="87073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7073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399960" y="476280"/>
          <a:ext cx="818064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76280"/>
                    <a:ext cx="81806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6280" y="250920"/>
          <a:ext cx="8367840" cy="66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250920"/>
                    <a:ext cx="836784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538200" y="450720"/>
          <a:ext cx="8393040" cy="61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50720"/>
                    <a:ext cx="839304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76360" y="488880"/>
          <a:ext cx="790416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488880"/>
                    <a:ext cx="790416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5120" y="493560"/>
          <a:ext cx="8272440" cy="63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93560"/>
                    <a:ext cx="8272440" cy="63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28760" y="500040"/>
          <a:ext cx="84470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00040"/>
                    <a:ext cx="84470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179280" y="333360"/>
            <a:ext cx="8964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con operador %  (resto o residu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1=n/10, d2=n%1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Resultado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” + d2 + d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directamente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(“Resultado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” + n%10 + n/1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jemplo: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 % 10 da 3, porque resto de 73/3 es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ntaxis: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1 % exp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  exp1 – exp1/exp2*exp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dad: misma que operadores * y 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15920" y="420840"/>
          <a:ext cx="9056520" cy="67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420840"/>
                    <a:ext cx="905652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pino</dc:creator>
  <dc:description/>
  <dc:language>en-US</dc:language>
  <cp:lastModifiedBy>jpino</cp:lastModifiedBy>
  <cp:lastPrinted>2006-03-14T15:11:26Z</cp:lastPrinted>
  <dcterms:modified xsi:type="dcterms:W3CDTF">2010-03-25T16:47:48Z</dcterms:modified>
  <cp:revision>99</cp:revision>
  <dc:subject/>
  <dc:title>Clase 2</dc:title>
</cp:coreProperties>
</file>