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995A-524A-437A-BBFD-D5FC74E2BA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B47-C506-4E18-B2E6-A03BC9D601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1DD-8020-499D-BFFA-AD2FE0AC34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750D-AB8D-4323-847A-43A1D3341B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46AC-B976-410B-B3EB-2AAD3FE091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D45-6252-4522-B74B-9781B703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EC6-1BA1-4FE0-8A9B-D03162B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8C1-44F7-4404-B414-73FCB8F5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0EF-7269-4364-B693-7B42FA81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120-6C09-4179-AA63-C3A284C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67B-C6C6-4CAD-8B7F-DC9BDC5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C99-1EFC-48AA-9957-67AE9EE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A69-81DF-4D2C-8145-E75D8011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ACD-D057-4352-B75F-6B2776ED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D79-D8D8-4122-9172-4D7D9D2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DF9-BE64-4AD8-880A-E728CBC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782-2E92-4C8B-B99F-35626B7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269-4182-425C-932F-BBC7D61A1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parcial de ejercicio adicio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y períme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hacerlo, si aún no lo ha intentado; hoy veremos algo similar en el resto de la cl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s de diversos tipos de colegios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8000" y="493560"/>
          <a:ext cx="86785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785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99960" y="476280"/>
          <a:ext cx="81806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180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6280" y="250920"/>
          <a:ext cx="836784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0920"/>
                    <a:ext cx="836784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38200" y="450720"/>
          <a:ext cx="839304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50720"/>
                    <a:ext cx="83930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76360" y="488880"/>
          <a:ext cx="790416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88880"/>
                    <a:ext cx="790416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5120" y="493560"/>
          <a:ext cx="82724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724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28760" y="50004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0004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con operador %  (resto o residu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1=n/10, d2=n%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d2 + d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directamente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n%10 + n/1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jemplo: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 % 10 da 3, porque resto de 73/3 es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taxis: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1 % 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  exp1 – exp1/exp2*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dad: misma que operadores * y 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pino</dc:creator>
  <dc:description/>
  <dc:language>en-US</dc:language>
  <cp:lastModifiedBy>jpino</cp:lastModifiedBy>
  <cp:lastPrinted>2006-03-14T15:11:26Z</cp:lastPrinted>
  <dcterms:modified xsi:type="dcterms:W3CDTF">2010-03-25T16:47:48Z</dcterms:modified>
  <cp:revision>99</cp:revision>
  <dc:subject/>
  <dc:title>Clase 2</dc:title>
</cp:coreProperties>
</file>