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6B2-6693-4686-8AAD-825FE567CD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268-1E97-4DEC-A8CF-EBB4155B23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50AA-C6FA-44E7-82DC-497404A444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A7D-1765-4D0A-9FB1-36B2690115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 - Cl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6A8-42F0-4D7F-AA79-D3D127B9B4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3F1-3C98-4C98-985E-5614D871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7D7-1419-4FD9-BD78-1282F7A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312-4071-472E-A8B7-1FAD9230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721-4DAA-45C9-8880-EBC41EA6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BA6-C1F4-4468-A89E-5052FFE3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E8A-C4DD-433C-83EF-6A72803E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AC0-CB91-4D9E-B34A-81D227C1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EF1-9F02-41D3-9D48-4AA0E22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F70-02C2-4B4D-B1DA-40F7E7B8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9BE-0FF5-437D-A10A-3CEC105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6CE-4C32-44D3-92D9-1C454A5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C2C-7BAA-42EB-9C41-D620D9B6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613-A42D-4755-BF64-477C4CE0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parcial de ejercicio adi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y períme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hacerlo, si aún no lo ha intentado; hoy veremos algo similar en el resto de la cl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s de diversos tipos de colegios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50004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0004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con operador %  (resto o residu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1=n/10, d2=n%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d2 + d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directamente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(“Resultado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” + n%10 + n/1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jemplo: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 % 10 da 3, porque resto de 73/3 es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taxis: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1 % 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  exp1 – exp1/exp2*exp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dad: misma que operadores * y 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pino</dc:creator>
  <dc:description/>
  <dc:language>en-US</dc:language>
  <cp:lastModifiedBy>jpino</cp:lastModifiedBy>
  <cp:lastPrinted>2006-03-14T15:11:26Z</cp:lastPrinted>
  <dcterms:modified xsi:type="dcterms:W3CDTF">2010-03-25T16:47:48Z</dcterms:modified>
  <cp:revision>99</cp:revision>
  <dc:subject/>
  <dc:title>Clase 2</dc:title>
</cp:coreProperties>
</file>