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39440"/>
            <a:ext cx="49417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 - Cl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1B5D-9F24-4E27-8FB0-F08C7A9045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 - Cl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1D91-AFAA-4E48-910F-47A9BAEB5C2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 - Cl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8C7A-9508-4AA1-9044-5E5A4F1EA8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 - Cl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6D51-B0B2-48E4-B270-8EC1FE7854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 - Cl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BA8F-E4DD-438D-923E-A371856010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FD1F-6FC7-4C78-AA3F-FA7248E5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D2B1-C958-4BE1-A982-2C929D42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8B4-3715-4E52-A5FB-F94E1DD7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E5D8-E36C-42D6-900F-93D55228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183-F194-4F8A-A6CF-5E592FAB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075-9BDF-402A-AAD2-8CAA25BF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3EE2-96F2-44DC-897B-7926A69D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06C8-EF9B-4195-80AB-E5C979CE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07D-C203-41D6-8EEA-70B62B20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A2F-B762-43CC-BD53-01BD7760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C00-79EE-4AEE-B539-B765F0B1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723-D46E-4F67-AA4A-9BEAD881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164B-78C5-4994-BAB0-5F7BDBF01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79280" y="333360"/>
            <a:ext cx="896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parcial de ejercicio adicion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Área y perímet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hacerlo, si aún no lo ha intentado; hoy veremos algo similar en el resto de la cl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lumnos de diversos tipos de colegios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ingresar nº alumnos de colegios: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=U.readInt(“públic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U.readInt(“subvencionad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U.readInt(“particulares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factor=100.0/(a+b+c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públicos=“ + a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vencionados=“ + b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ticulares=“ + c*factor + ”%“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676440" y="501480"/>
          <a:ext cx="7991280" cy="605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501480"/>
                    <a:ext cx="7991280" cy="60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8000" y="493560"/>
          <a:ext cx="8678520" cy="74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93560"/>
                    <a:ext cx="8678520" cy="74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378000" y="493560"/>
          <a:ext cx="8707320" cy="74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93560"/>
                    <a:ext cx="8707320" cy="74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399960" y="476280"/>
          <a:ext cx="818064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76280"/>
                    <a:ext cx="818064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76280" y="250920"/>
          <a:ext cx="8367840" cy="66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250920"/>
                    <a:ext cx="8367840" cy="66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538200" y="450720"/>
          <a:ext cx="8393040" cy="613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50720"/>
                    <a:ext cx="8393040" cy="61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76360" y="488880"/>
          <a:ext cx="7904160" cy="638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488880"/>
                    <a:ext cx="7904160" cy="63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65120" y="493560"/>
          <a:ext cx="8272440" cy="632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93560"/>
                    <a:ext cx="8272440" cy="632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28760" y="500040"/>
          <a:ext cx="8447040" cy="61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500040"/>
                    <a:ext cx="8447040" cy="61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179280" y="333360"/>
            <a:ext cx="896472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con operador %  (resto o residu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1=n/10, d2=n%1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“Resultado=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” + d2 + d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 directamente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(“Resultado=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” + n%10 + n/10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jemplo: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3 % 10 da 3, porque resto de 73/3 es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ntaxis: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1 % exp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  exp1 – exp1/exp2*exp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oridad: misma que operadores * y 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115920" y="420840"/>
          <a:ext cx="9056520" cy="67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420840"/>
                    <a:ext cx="905652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25520" y="501480"/>
          <a:ext cx="8555040" cy="568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501480"/>
                    <a:ext cx="855504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pino</dc:creator>
  <dc:description/>
  <dc:language>en-US</dc:language>
  <cp:lastModifiedBy>jpino</cp:lastModifiedBy>
  <cp:lastPrinted>2006-03-14T15:11:26Z</cp:lastPrinted>
  <dcterms:modified xsi:type="dcterms:W3CDTF">2010-03-25T16:47:48Z</dcterms:modified>
  <cp:revision>99</cp:revision>
  <dc:subject/>
  <dc:title>Clase 2</dc:title>
</cp:coreProperties>
</file>