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D1ED-8BC6-4C4B-8DD0-9C120FCDCB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0185-CE5A-4EB9-8310-0B907EC1D4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4134-2261-4045-8815-9E123FD1B8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B4D0-FEE5-4F9E-9644-A67EC17F49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2D95-4839-4295-9D9A-C5D44560B9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3848-E730-417B-BA8E-2519352520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5662-1F74-442F-B5C7-6E135A3A8D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F898-92DF-458A-928C-90A43233D1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15CB-38D2-4083-957D-B0F60A7B74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AA72-23E0-41A8-8269-E3F1DD0231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5C81-2592-4D18-8EC4-85650A09F1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BAA6-B445-4017-8B42-BFBACF8D64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434-CB75-4AF6-8C29-43D0846A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E34-2D06-4C40-8854-58013116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938-B24B-4893-AB3D-67B5FCD1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73A-5DE7-46AB-AA6B-7AA59B15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49E-18A4-41B5-9F42-01EBDFC2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7AE-B43F-4D39-9580-50ADE5A4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9B5-231E-42CB-A249-1685D8F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F9A-995F-4895-BB79-025A7CA0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5A9-A156-4D2C-BEC2-E044A8CE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1BD-7F9C-4855-84B6-0C59FFF5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EA6-2047-4EFF-BE9E-3FCB8C9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89D-1C6A-4FD8-BE35-D888A65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E6E7-BA75-437A-A143-DD1FC15EA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pino</dc:creator>
  <dc:description/>
  <dc:language>en-US</dc:language>
  <cp:lastModifiedBy>jpino</cp:lastModifiedBy>
  <cp:lastPrinted>2006-03-07T16:10:21Z</cp:lastPrinted>
  <dcterms:modified xsi:type="dcterms:W3CDTF">2010-03-24T12:14:15Z</dcterms:modified>
  <cp:revision>88</cp:revision>
  <dc:subject/>
  <dc:title>clase 1</dc:title>
</cp:coreProperties>
</file>