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8B80-8788-4C46-802E-E590B7B8B1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0169-D3DC-4655-93A9-3B0499BC01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79D4-E9F7-4592-AF02-E6A2D67F2A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0D5F-B070-4C82-8EBF-6F1A6F2E784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9CE9-BF8A-4681-8ADB-63790CB9F4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7D03-DDC2-4BF1-9E7F-2A9D878B9A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4469-EF74-4E6F-BC1F-CFD6FFD73E1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9E6C-3BAE-407D-9664-290560271C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3FCF-1934-41EC-B639-6C7FA2FB6A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EA3B-9F13-40A4-B4D3-ED47E578942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1549-CC28-481E-A8C2-00FFE85FA4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939A-2AF3-45D2-9C5F-CF0CD00CE6D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BB9-B611-4A48-9609-79C1E752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920-71E2-4AD2-B287-59A6562E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887-8EB0-4281-B506-C1DC9EC2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26D-0656-48BA-BD0A-980893AA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1D0-2032-4987-AD96-1D04166B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4A6-1273-4C79-8B3D-7975AA8D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D7A-C85D-4DDF-83DC-C21FB5F7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8CA-1895-48EA-BE4B-F324A1A7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ECB-9CF5-4DDA-9FFC-0E41E826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1B5-93DC-4845-A2F1-315DA014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943-138C-42E6-9597-D6CE1BA7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418-85F8-45FB-92E1-39120074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C878-BC28-4DF5-B840-AF8DAE5034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pino</dc:creator>
  <dc:description/>
  <dc:language>en-US</dc:language>
  <cp:lastModifiedBy>jpino</cp:lastModifiedBy>
  <cp:lastPrinted>2006-03-07T16:10:21Z</cp:lastPrinted>
  <dcterms:modified xsi:type="dcterms:W3CDTF">2010-03-24T12:14:15Z</dcterms:modified>
  <cp:revision>88</cp:revision>
  <dc:subject/>
  <dc:title>clase 1</dc:title>
</cp:coreProperties>
</file>