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C339-3DB1-4DD8-8229-49216A374D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E7A8-45C4-42CE-8AB7-EB3A8A224B8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BF96-B7AA-44D9-9DCA-51933FA739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0F55-AD14-48F4-8EEC-283A2060DF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6E8-3714-4ADD-9CA5-5E700B968B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3712-CDDE-461B-89F2-E8912E1B65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A8DF-444B-4618-BFDF-03D59CDD19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740B-EE3B-4861-937E-8E2AD9BC16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E430-3A55-4789-B5DD-69B49CF4EE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DB45-BBD0-44C3-A662-C501236C52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DFCB-070C-4673-85E7-F5EA2ABFB6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551C-60B4-4796-85DC-F43C37978F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5D6-C677-4CDB-A414-0F56E275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4A0-91E9-41F1-AF87-CF044E27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E8C-6845-4F5D-9703-972573E7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BB6-71A8-41FC-BF3B-F1132F33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33D-21C8-49EE-B6C7-7D1A98B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068-3D13-40C3-B87A-53F49E9E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634-FFBD-4314-9F5A-72C064B1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87A-69A4-4621-A858-4BD19AA9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94D-6CE8-4C57-9A45-1939F76D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649-D441-40EC-9CD0-D43FC47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936-4EF3-4591-9EB9-BAFE9748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15D-B3E5-4C42-82A5-9F12D1E5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FBC5-5576-4369-B896-125CB8753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pino</dc:creator>
  <dc:description/>
  <dc:language>en-US</dc:language>
  <cp:lastModifiedBy>jpino</cp:lastModifiedBy>
  <cp:lastPrinted>2006-03-07T16:10:21Z</cp:lastPrinted>
  <dcterms:modified xsi:type="dcterms:W3CDTF">2010-03-24T12:14:15Z</dcterms:modified>
  <cp:revision>88</cp:revision>
  <dc:subject/>
  <dc:title>clase 1</dc:title>
</cp:coreProperties>
</file>