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63F9-B398-4468-B5DD-CD60BF1EB0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3CC7-9F34-4D7D-9912-214E186275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EF03-4DB5-4387-93A5-184F9A1EFE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E1E0-F579-4C1E-8120-FB63834C2C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0FBD-F775-4269-A7FA-D3ED6F0E57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7A9E-17C6-4483-9C1E-F88D0F4E0D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BBA1-54E7-4BA5-B897-3DE21FFB43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EA0B-1C8F-41E2-BDFA-169714B9DE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BE5D-13A2-40DF-880C-53EC08C936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F094-8A14-4910-AF43-017433E8E5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ECD-A39D-4353-938B-C3B7EF562F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B902-EFBE-43C8-B671-2EF0FE358B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D41-1FCA-4075-8F2F-819A786A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774-6414-4EA1-ADA2-76715AE7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1F9-E0F5-47A4-BBCA-7D777387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071-F7E2-4C84-ADA1-FF66BE77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A37-54E6-4BF6-9D22-BCBDD36A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575-49B5-4F25-8058-7B325543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628-4A46-4CCE-A4D9-88CB4D30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B04-675B-4860-84B7-840A46A6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18A-2C56-43C7-AF7B-4CDAB379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5B1-BAEE-45CF-AE24-74C8E510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5ED-D952-460E-9D84-7748C6E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6C5-CD02-47D4-9055-A2EA1D72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6542-6D6E-47E6-A078-1C5ECAAB6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pino</dc:creator>
  <dc:description/>
  <dc:language>en-US</dc:language>
  <cp:lastModifiedBy>jpino</cp:lastModifiedBy>
  <cp:lastPrinted>2006-03-07T16:10:21Z</cp:lastPrinted>
  <dcterms:modified xsi:type="dcterms:W3CDTF">2010-03-24T12:14:15Z</dcterms:modified>
  <cp:revision>88</cp:revision>
  <dc:subject/>
  <dc:title>clase 1</dc:title>
</cp:coreProperties>
</file>