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84AB-D4A5-477F-B901-94124A675B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4BBA-4529-4EA0-8233-B93E74028B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5501-FE24-47AB-87DB-14A35D213C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8C5-0A93-43DD-BBF5-EED00554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FAE-1B27-4B53-B3B3-749AC976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BF6-1870-4C5B-89B8-6B353817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9A1-AA31-42C8-8245-4D45345F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12E-19E1-4584-97E9-6F7D50E5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964-5BD7-41CD-B2EC-4F68E8A5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1A5-65AC-45FC-832F-DA2FBB3D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CF7-A925-4CEF-8D55-14B50B49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422-871A-4547-93A4-F14753B6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B02-C4AF-4CA2-98F6-8D00D8D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55E-3F56-4B75-8010-BDC3CB2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0D8-CC94-4100-9028-5F257F5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CD62-81F5-4C7C-ABA5-1A834DA24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of. 302; martes 16-17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0-03-24T12:13:44Z</dcterms:modified>
  <cp:revision>30</cp:revision>
  <dc:subject/>
  <dc:title>datos generales curso</dc:title>
</cp:coreProperties>
</file>