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FFF2-E874-4F62-B035-67E493AAD5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73CE-8DD9-457B-858D-CC6C320D09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443F-AACD-4BC7-B27E-EE2EC9E247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03A-B4E8-4A1C-A3A4-0488E016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C34-2CC5-4C63-957C-A27B1D87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C55-E544-423B-8D3D-323B2615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840-85BB-417A-A295-2A0F554C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E56-4AB8-495B-80F3-A7CDD20C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1B0-DB5B-4482-AD1C-C561BD8B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33C-1BED-4908-B688-2EA75207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C84-3A70-494A-8035-717178AA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121-9C58-409D-A8BC-90DF766B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DE1-739D-4A0A-B0A8-1B53BA07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23E-1B7F-4EBD-95DF-B95777CE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227-68E8-40A7-BD6E-FE3216B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EC80-9DC3-4145-9ACD-2A78F2F1B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of. 302; martes 16-17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0-03-24T12:13:44Z</dcterms:modified>
  <cp:revision>30</cp:revision>
  <dc:subject/>
  <dc:title>datos generales curso</dc:title>
</cp:coreProperties>
</file>