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5D9-F03E-4B24-886A-E80187EA36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A5C-5898-4CD5-9CC5-9FC530B149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F3C-CC39-433C-AB5F-48347BA3F2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840-BE45-48D8-9604-E3319121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D52-43E8-4542-993F-2AB5C62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7DE-FDB2-40D5-90D7-B35401A0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410-2FCE-4A57-9678-AEF71CB2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A61-5D7E-4D51-819E-02FB2FB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CE8-E200-45BD-91B1-9A644ECF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529-1F6B-4EC3-9F3A-698DA9A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210-6FF9-4CDF-8A1A-F9044D5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232-20DB-4BD1-9C40-798DD5E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11B-8C45-4041-8AE4-F1023C7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DD5-A43A-4961-99B5-D189473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1A4-737B-418B-A86F-EB19F34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F17-BE7B-4B3A-A83B-6F574E9B8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of. 302; martes 16-17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0-03-24T12:13:44Z</dcterms:modified>
  <cp:revision>30</cp:revision>
  <dc:subject/>
  <dc:title>datos generales curso</dc:title>
</cp:coreProperties>
</file>