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4074-BF49-42F2-82E6-2F8296A682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8624-033A-4824-A23C-9790AE6C35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18CC-CB6E-4F3E-B3CE-1B39A19EBE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6D0-B667-4A0B-9A90-E3733BC4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154-5172-4026-A52E-F0592ED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718-554F-4F34-932B-7B37A9F8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3E8-90EB-4FAD-8020-950D9214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A2C-B5F2-494B-A3DA-CC22E471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777-E11F-41E9-9218-BA244050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A04-9C2E-4F96-86CB-718726BF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194-2300-4FE4-96CA-EB0404A3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5A4-754A-4FA5-9463-F6F2EC15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88E-958D-4C26-8608-92AA520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78F-B68B-44BF-BFD7-8485252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E9F-26B5-46D1-92C3-D93976A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2FA8-FCEB-4E1F-9BB9-D25D6D571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of. 302; martes 16-17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0-03-24T12:13:44Z</dcterms:modified>
  <cp:revision>30</cp:revision>
  <dc:subject/>
  <dc:title>datos generales curso</dc:title>
</cp:coreProperties>
</file>