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DAC9-8B3E-41B7-BA5F-4C59D1B7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B413-91B2-4B08-BCFC-D0433D27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7A24-FFDA-4187-8716-EE9515E0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88FA-AC00-4464-9ECB-076F793C1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78C8-C2C4-43DF-A317-13CB0E57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2F1D-AC61-490A-8882-78014FD1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4B92-66F2-4BF4-882A-688C863E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921E-75FA-4041-B999-0DF8F394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B973-83C6-44EE-9B53-65092EA7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31A5-40B1-44AE-9217-215EF121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1171-F8AA-408A-BA30-0ED3C404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DB33-CFC7-447F-9F15-1C8FC9C1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4465-77EE-4B62-9203-7266A3E1E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strucciones if/else y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1197000"/>
            <a:ext cx="82915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9152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a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ribe el dato X en el string a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jempl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 a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%g se reempl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ea=sprintf('fila %g: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1557360"/>
            <a:ext cx="896472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atos(2,:)=sin(datos(1,:)); %se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title(‘…’) xlabel(‘…’)    ylabel(‘…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333360"/>
          <a:ext cx="8218440" cy="6134040"/>
        </p:xfrm>
        <a:graphic>
          <a:graphicData uri="http://schemas.openxmlformats.org/drawingml/2006/table">
            <a:tbl>
              <a:tblPr/>
              <a:tblGrid>
                <a:gridCol w="2739960"/>
                <a:gridCol w="3380040"/>
                <a:gridCol w="209844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pres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 . 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r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-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 (negac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, 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  /   \   .*   ./   .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, re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 &lt;=  &gt;  &gt;=  ==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260280"/>
            <a:ext cx="792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a(i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a(i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f23(x): calcula x al cuadrado y al cu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unction[xx,xxx] = f23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x = x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xxx =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[ a b ] = f23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f23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28640"/>
            <a:ext cx="850752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f23(x): calcula x cuadrado y x cu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function[xx,xxx] = f23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x = x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xxx = cubo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function y=cubo(x) %visible en arch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y =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557360"/>
            <a:ext cx="8507520" cy="456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raices(a,b,c): raíces de a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x+bx+c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unction[r1,r2] = raices(a,b,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=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2 -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*a*c; %discrimina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 a=0 | d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rror(‘a=0 o sin raices reales’); %ab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lseif 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warning(‘raices iguales’);%muestra mens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1=(-b + sqrt(d))/(2*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2=(-b - sqrt(d))/(2*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[x y]=raices(1,4,3)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gt;&gt;[x y]=raices(1,1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=-1  y=-3            a=0 o sin raices re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74840" y="4383000"/>
            <a:ext cx="2925720" cy="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-194760" y="2510280"/>
            <a:ext cx="5120640" cy="23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457360" y="4383000"/>
            <a:ext cx="0" cy="457200"/>
          </a:xfrm>
          <a:prstGeom prst="line">
            <a:avLst/>
          </a:prstGeom>
          <a:ln w="648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24440" y="3882960"/>
            <a:ext cx="1440" cy="549360"/>
          </a:xfrm>
          <a:prstGeom prst="line">
            <a:avLst/>
          </a:prstGeom>
          <a:ln w="648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95640" y="3716280"/>
            <a:ext cx="276120" cy="4161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95640" y="3645000"/>
            <a:ext cx="1371600" cy="576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=(a+b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34080" y="4683240"/>
            <a:ext cx="457200" cy="3650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18040" y="3324240"/>
            <a:ext cx="549360" cy="1839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00160" y="4118040"/>
            <a:ext cx="457200" cy="46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45000" y="4282920"/>
            <a:ext cx="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8400" y="3765600"/>
            <a:ext cx="903600" cy="45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9280" y="4416480"/>
            <a:ext cx="1645920" cy="4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274320"/>
            <a:ext cx="8100720" cy="37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: Calcular raíz por el método de búsqueda bin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r x como punto medio del interv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f(x) tiene el mismo signo de f(a) entonces repetir el proceso en intervalo [x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f(x) tiene el mismo signo de f(b) entonces repetir el proceso en intervalo [a,x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 Las iteraciones se detienen cuando el tamaño del intervalo de búsqueda alcance un epsil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2200" y="554076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 r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iz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,b,ep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17840" y="38754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ción iter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while b-a &gt;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signo(f(x))==signo(f(a)) a=x; else b=x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(a+b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x&lt;0 r=-1; elseif x&gt;0 r=1; else r=0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ción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signo(f(x)) == signo(f(a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9T14:32:44Z</dcterms:created>
  <dc:creator>Profesor</dc:creator>
  <dc:description/>
  <dc:language>en-US</dc:language>
  <cp:lastModifiedBy>DCC</cp:lastModifiedBy>
  <dcterms:modified xsi:type="dcterms:W3CDTF">2009-05-28T14:55:00Z</dcterms:modified>
  <cp:revision>17</cp:revision>
  <dc:subject/>
  <dc:title>Diapositiva 1</dc:title>
</cp:coreProperties>
</file>