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48A5-4D3C-41DC-B5E2-E4A017513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0034-5945-41F2-8B2B-13CCD8CB4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B951-7801-4644-8BCD-FC93419A7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485E-FAD2-4A7F-AD3A-70D22F8DF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B895-D6CC-4EA9-BA34-E48E937E9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5895-FC3B-47CE-ACF1-2F7C73FDB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6DC1-5EDA-48AB-A2F3-D983D55E8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9DE8-FF80-4651-A98C-B12FD40ED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A83C-08B4-4296-A921-8509D55C5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CAC4-EFD4-44D3-96E3-9E73B8F6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6168-030A-4C61-A7F2-420391DE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663E-32FF-40F6-B6AD-4870DD3B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BFEEF-C699-4B3F-A026-26738EC40A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strucciones if/else y w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1197000"/>
            <a:ext cx="829152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instrucciones MAT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expresión2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…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otros else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% instrucciones MAT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critura” formateada a un st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829152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a=sprintf(formato,X,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cribe el dato X en el string a bajo el control del string form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jempl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&gt;&gt; a=sprintf('x=%g',p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x=3.141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%Jalisco: nunca pie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=input('n°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disp( sprintf('gano yo con %g',n+1)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%g se reemplaza por el valor d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%s se usa para strings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 con 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&gt;&gt;a=rand(2,3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&gt;&gt;[filas cols]=size(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i=1:fi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ea=sprintf('fila %g: ',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j=1: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ea=sprintf('%s%g ',linea, a(i,j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p(line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a 1: 0.921813 0.176266 0.9354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a 2: 0.738207 0.405706 0.91690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Grabar y leer arreg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1557360"/>
            <a:ext cx="896472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%graba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datos=zeros(2,10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datos(1,:)=linspace(0,2*pi,100);%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datos(2,:)=sin(datos(1,:)); %se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save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%lee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load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x=datos(1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y=datos(2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&gt;&gt;x=linspace(-pi,pi,100); plot(x,sin(x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title(‘…’) xlabel(‘…’)    ylabel(‘…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urier New"/>
              </a:rPr>
              <a:t>plot(x,y,’r’) %color 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plot(x,y,’k:’); %negro y pu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urier New"/>
              </a:rPr>
              <a:t>plot(x,y,’…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ious line types, plot symbols and colors may be obtained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OT(X,Y,S) where S is a character string made from one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om any or all the following 3 colum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     blue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    point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     so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     green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    circle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    dot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    red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     x-mark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.    dashd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     cyan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     plus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-    dashed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     magenta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    star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none)  no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     yellow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     sq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     black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     dia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    triangle (dow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^     triangle (u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     triangle (lef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    triangle (rig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    pent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     hex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example, PLOT(X,Y,'c+:') plots a cyan dotted line with a plu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each data point; PLOT(X,Y,'bd') plots blue diamond at each 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int but does not draw any l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&gt;&gt; x=linspace(-pi,pi,20);</a:t>
            </a:r>
            <a:br>
              <a:rPr sz="3200"/>
            </a:b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&gt;&gt; plot(x,sin(x),'r--*',x,cos(x),'b--o')</a:t>
            </a:r>
            <a:br>
              <a:rPr sz="3200"/>
            </a:b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 hold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 plot(x,sin(x),'r--*'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 plot(x,cos(x),'b--o'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39640" y="333360"/>
          <a:ext cx="8218440" cy="6134040"/>
        </p:xfrm>
        <a:graphic>
          <a:graphicData uri="http://schemas.openxmlformats.org/drawingml/2006/table">
            <a:tbl>
              <a:tblPr/>
              <a:tblGrid>
                <a:gridCol w="2739960"/>
                <a:gridCol w="3380040"/>
                <a:gridCol w="2098440"/>
              </a:tblGrid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ímbo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or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xpresió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  . ^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ari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-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~ (negació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, divis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  /   \   .*   ./   .\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a, res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or 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cio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 &lt;=  &gt;  &gt;=  ==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~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ign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xis([-pi,pi,-1,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&gt;&gt; subplot(2,1,1), plot(x,sin(x),'r--*'), title('seno')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&gt;&gt; subplot(2,1,2), plot(x,cos(x),'r--*'), title(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&gt;&gt; rectangle('Curvature',[1 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[x y z]=sphere(30);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esh(x,y,z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urf(x,y,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68360" y="260280"/>
            <a:ext cx="792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Instrucción f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i=1:10 %for variable=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i=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a(i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i=1:length(a)  %largo de arreg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a(i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unciones con varios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%f23(x): calcula x al cuadrado y al cu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function[xx,xxx] = f23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xx = x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^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xxx =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x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^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[ a b ] = f23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b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f23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unciones internas (local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628640"/>
            <a:ext cx="850752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f23(x): calcula x cuadrado y x cub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function[xx,xxx] = f23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xx = x.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^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xxx = cubo(x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function y=cubo(x) %visible en arch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y =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x.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^3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Raices de ecuación de 2º g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557360"/>
            <a:ext cx="8507520" cy="4568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%raices(a,b,c): raíces de a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x+bx+c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function[r1,r2] = raices(a,b,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=b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^2 -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4*a*c; %discrimina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 a=0 | d&l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error(‘a=0 o sin raices reales’); %abo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elseif d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warning(‘raices iguales’);%muestra mens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1=(-b + sqrt(d))/(2*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2=(-b - sqrt(d))/(2*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[x y]=raices(1,4,3)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&gt;&gt;[x y]=raices(1,1,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x=-1  y=-3            a=0 o sin raices re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74840" y="4383000"/>
            <a:ext cx="2925720" cy="0"/>
          </a:xfrm>
          <a:prstGeom prst="line">
            <a:avLst/>
          </a:prstGeom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-194760" y="2510280"/>
            <a:ext cx="5120640" cy="237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2457360" y="4383000"/>
            <a:ext cx="0" cy="457200"/>
          </a:xfrm>
          <a:prstGeom prst="line">
            <a:avLst/>
          </a:prstGeom>
          <a:ln w="648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924440" y="3882960"/>
            <a:ext cx="1440" cy="549360"/>
          </a:xfrm>
          <a:prstGeom prst="line">
            <a:avLst/>
          </a:prstGeom>
          <a:ln w="648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95640" y="3716280"/>
            <a:ext cx="276120" cy="41616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95640" y="3645000"/>
            <a:ext cx="1371600" cy="576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=(a+b)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34080" y="4683240"/>
            <a:ext cx="457200" cy="3650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18040" y="3324240"/>
            <a:ext cx="549360" cy="18396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000160" y="4118040"/>
            <a:ext cx="457200" cy="46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645000" y="4282920"/>
            <a:ext cx="0" cy="18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08400" y="3765600"/>
            <a:ext cx="903600" cy="455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9280" y="4416480"/>
            <a:ext cx="1645920" cy="49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274320"/>
            <a:ext cx="8100720" cy="37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rcicio: Calcular raíz por el método de búsqueda bin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ar x como punto medio del interva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f(x) tiene el mismo signo de f(a) entonces repetir el proceso en intervalo [x,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f(x) tiene el mismo signo de f(b) entonces repetir el proceso en intervalo [a,x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. Las iteraciones se detienen cuando el tamaño del intervalo de búsqueda alcance un epsil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2200" y="554076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 r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aiz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a,b,ep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17840" y="38754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274680"/>
            <a:ext cx="8147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ción itera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1125360"/>
            <a:ext cx="88930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while b-a &gt;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signo(f(x))==signo(f(a)) a=x; else b=x;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=(a+b)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%signo(x) devuelve -1, 0 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function r=signo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x&lt;0 r=-1; elseif x&gt;0 r=1; else r=0;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ción recurs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686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b-a &lt;=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signo(f(x)) == signo(f(a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=raiz(x,b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=raiz(a,x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9T14:32:44Z</dcterms:created>
  <dc:creator>Profesor</dc:creator>
  <dc:description/>
  <dc:language>en-US</dc:language>
  <cp:lastModifiedBy>DCC</cp:lastModifiedBy>
  <dcterms:modified xsi:type="dcterms:W3CDTF">2009-05-28T14:55:00Z</dcterms:modified>
  <cp:revision>17</cp:revision>
  <dc:subject/>
  <dc:title>Diapositiva 1</dc:title>
</cp:coreProperties>
</file>