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E86-BEF5-4CDA-AF9A-47723B45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B553-D3A5-4F46-8936-6FE96062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618A-F247-44B4-B8BD-522D10A0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6A50-AE69-44FE-9D6B-593E84FA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41DA-DAC0-490E-950D-C48F8DBE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99D-5345-42D3-A818-01F13F03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1A8E-92E3-4F5A-96E4-1644B9B5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4E7F-7058-44AC-B0D5-1EAF7A0C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4C2F-BD9F-49FC-B956-3294F2BB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81BC-967F-466A-BF65-F3D66D7B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693-6A57-428E-A74F-34136E01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377C-1346-4F06-B6D3-71D4BC33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82A5-C1F6-427A-A3AA-41BDF923C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ones if/else y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915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ribe el dato X en el string a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 a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g se reempl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fila %g: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557360"/>
            <a:ext cx="89647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(2,:)=sin(datos(1,:)); %s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title(‘…’) xlabel(‘…’)    ylabel(‘…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333360"/>
          <a:ext cx="8218440" cy="6134040"/>
        </p:xfrm>
        <a:graphic>
          <a:graphicData uri="http://schemas.openxmlformats.org/drawingml/2006/table">
            <a:tbl>
              <a:tblPr/>
              <a:tblGrid>
                <a:gridCol w="2739960"/>
                <a:gridCol w="3380040"/>
                <a:gridCol w="209844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pres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 . 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 (negac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, 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  /   \   .*   ./   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, 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 &lt;=  &gt;  &gt;=  ==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26028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a(i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a(i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f23(x): calcula x al cuadrado y al c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 a b ] = 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28640"/>
            <a:ext cx="85075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f23(x): calcula x cuadrado y x cu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cubo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function y=cubo(x) %visible en arch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y =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557360"/>
            <a:ext cx="8507520" cy="456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raices(a,b,c): raíces de 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+bx+c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r1,r2] = raices(a,b,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=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 -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*a*c; %discrimin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a=0 | d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rror(‘a=0 o sin raices reales’); %ab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lseif 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arning(‘raices iguales’);%muestra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1=(-b +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2=(-b -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x y]=raices(1,4,3)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gt;&gt;[x y]=raices(1,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=-1  y=-3            a=0 o sin raices r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74840" y="4383000"/>
            <a:ext cx="292572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-194760" y="2510280"/>
            <a:ext cx="5120640" cy="23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457360" y="4383000"/>
            <a:ext cx="0" cy="45720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24440" y="3882960"/>
            <a:ext cx="1440" cy="54936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3716280"/>
            <a:ext cx="276120" cy="4161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95640" y="3645000"/>
            <a:ext cx="1371600" cy="576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34080" y="4683240"/>
            <a:ext cx="457200" cy="3650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18040" y="3324240"/>
            <a:ext cx="549360" cy="1839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00160" y="4118040"/>
            <a:ext cx="457200" cy="46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45000" y="428292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8400" y="3765600"/>
            <a:ext cx="90360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9280" y="4416480"/>
            <a:ext cx="164592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74320"/>
            <a:ext cx="8100720" cy="37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: Calcular raíz por el método de búsqueda b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r x como punto medio del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a) entonces repetir el proceso en intervalo [x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b) entonces repetir el proceso en intervalo [a,x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 Las iteraciones se detienen cuando el tamaño del intervalo de búsqueda alcance un epsil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2200" y="55407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i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,b,e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7840" y="3875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ón iter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while b-a &gt;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==signo(f(a)) a=x; else b=x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0 r=-1; elseif x&gt;0 r=1; else r=0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ón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 == signo(f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4:32:44Z</dcterms:created>
  <dc:creator>Profesor</dc:creator>
  <dc:description/>
  <dc:language>en-US</dc:language>
  <cp:lastModifiedBy>DCC</cp:lastModifiedBy>
  <dcterms:modified xsi:type="dcterms:W3CDTF">2009-05-28T14:55:00Z</dcterms:modified>
  <cp:revision>17</cp:revision>
  <dc:subject/>
  <dc:title>Diapositiva 1</dc:title>
</cp:coreProperties>
</file>