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CF8-565E-43E6-B1BB-20A44B2B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1EF-3640-492B-AD5B-F88DBE59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833-B6D5-4C9B-B7A1-B6C64B41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AAC-BAA1-4591-BFE7-E7A36A2B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EA8-7A0B-4B92-BC65-4695F93D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9E2-3C7D-442C-A456-F12D5D7C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A61-F4C7-4C47-8FB8-6F009B6C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FD9-E345-4535-91A5-0AE28D7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A95-A31D-4C47-8528-172DB332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1E0-6F06-4338-BA8D-E77F8CF5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A69-AF32-46B0-9693-131ADAC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39E-CDCF-4ADD-B5CB-8F91602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5D09-CE4D-4C10-B86B-628059559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DCC</cp:lastModifiedBy>
  <dcterms:modified xsi:type="dcterms:W3CDTF">2009-05-28T14:55:00Z</dcterms:modified>
  <cp:revision>17</cp:revision>
  <dc:subject/>
  <dc:title>Diapositiva 1</dc:title>
</cp:coreProperties>
</file>