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AD0-6FAA-4B78-8E5A-3327E180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77B-21E5-4964-A2CC-6B5F8550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F2CD-FFE1-4679-ABB1-6B9FAA0F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E45-E81F-434C-93C1-A2EC162D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862-816D-41AA-999F-8D3DB703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8865-5437-4A2F-B6F8-7A5F67F8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E0F0-335E-43FD-8B22-538DCB77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8A9-CC7B-48B9-BD98-20F7A990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D7D-8915-4B24-A472-691E1DC0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1606-59A8-4170-9A3A-CCFDD169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B26-1DB0-431B-B362-014610F9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6D3-00D9-4931-92C6-AE1E9C83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716B-4D79-41A8-977D-7C3F80EF2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4720" y="517680"/>
          <a:ext cx="849492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17680"/>
                    <a:ext cx="849492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4600" y="120600"/>
          <a:ext cx="8780400" cy="71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20600"/>
                    <a:ext cx="8780400" cy="71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19200" y="658800"/>
          <a:ext cx="81342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8800"/>
                    <a:ext cx="81342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93640" y="568440"/>
          <a:ext cx="8497800" cy="64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68440"/>
                    <a:ext cx="849780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03200" y="565200"/>
          <a:ext cx="86868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65200"/>
                    <a:ext cx="86868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4200" y="538200"/>
          <a:ext cx="83232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3232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4200" y="538200"/>
          <a:ext cx="82026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2026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84200" y="457200"/>
          <a:ext cx="86994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57200"/>
                    <a:ext cx="86994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74952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4. calculando término del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true; i+=2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rmi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Math.abs(termino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psilon) break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374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5. abrevi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h.abs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rmin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psil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+=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otangente: x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eno: 1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!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!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aritmo natural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 Z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+ . . .) con Z =(x-1)/(x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óxim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ércoles a las 10 h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fa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04720" y="685800"/>
          <a:ext cx="844704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685800"/>
                    <a:ext cx="844704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68440" y="506520"/>
          <a:ext cx="843732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43732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46200" y="538200"/>
          <a:ext cx="8067600" cy="56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538200"/>
                    <a:ext cx="8067600" cy="56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17600" y="511200"/>
          <a:ext cx="8713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511200"/>
                    <a:ext cx="8713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60400" y="550800"/>
          <a:ext cx="7705800" cy="59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550800"/>
                    <a:ext cx="770580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23800" y="577800"/>
          <a:ext cx="8175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23800" y="577800"/>
          <a:ext cx="817560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98400" y="511200"/>
          <a:ext cx="8136000" cy="61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11200"/>
                    <a:ext cx="8136000" cy="61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4:36:52Z</dcterms:created>
  <dc:creator>jalvarez</dc:creator>
  <dc:description/>
  <dc:language>en-US</dc:language>
  <cp:lastModifiedBy>jalvarez</cp:lastModifiedBy>
  <cp:lastPrinted>2006-08-19T16:06:24Z</cp:lastPrinted>
  <dcterms:modified xsi:type="dcterms:W3CDTF">2009-10-05T12:16:19Z</dcterms:modified>
  <cp:revision>30</cp:revision>
  <dc:subject/>
  <dc:title>Sin título de diapositiva</dc:title>
</cp:coreProperties>
</file>