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FD4A-75D4-4CEE-8C83-7F05A831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244B-D16B-450C-8D74-C2C0DE72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A59E-81DC-4D60-BA92-18B7D56E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F96B-4147-4946-A5C2-1A791ED1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FF28-EFD1-49C9-8646-2D30D0C3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83B2-FAEB-4560-90ED-A5DBECA3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DEB3-84B2-4052-B592-72A30CD8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EB14-83F0-411B-8575-9B600A7E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195A-916C-4742-AC43-DD9BA8B2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0BA8-5968-4938-800F-3407C5C9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DBD7-FC67-4BE0-9410-0A2EB126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2FDB-74C8-4102-90FB-61744209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4423-838B-4C85-AE16-8D54D8EBA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04720" y="517680"/>
          <a:ext cx="8494920" cy="702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17680"/>
                    <a:ext cx="8494920" cy="70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74600" y="120600"/>
          <a:ext cx="8780400" cy="714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20600"/>
                    <a:ext cx="8780400" cy="71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19200" y="658800"/>
          <a:ext cx="8134200" cy="56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58800"/>
                    <a:ext cx="8134200" cy="56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93640" y="568440"/>
          <a:ext cx="8497800" cy="64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68440"/>
                    <a:ext cx="8497800" cy="64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03200" y="565200"/>
          <a:ext cx="868680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65200"/>
                    <a:ext cx="868680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84200" y="538200"/>
          <a:ext cx="832320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538200"/>
                    <a:ext cx="832320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84200" y="538200"/>
          <a:ext cx="820260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538200"/>
                    <a:ext cx="820260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84200" y="457200"/>
          <a:ext cx="86994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57200"/>
                    <a:ext cx="86994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74952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4. calculando término del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eno(double x,double epsil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uma=x, termino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3; true; i+=2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rmi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)/((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Math.abs(termino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=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psilon) break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um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termi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u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4374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5. abrevi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eno(double x,double epsil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uma=x, termino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h.abs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rmin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)/((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)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psil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+=2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termi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u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otangente: x –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5 -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eno: 1 –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!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! -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aritmo natural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 Z + Z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+ Z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5 + . . .) con Z =(x-1)/(x+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óxima cl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ércoles a las 10 h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fa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04720" y="685800"/>
          <a:ext cx="844704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685800"/>
                    <a:ext cx="844704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68440" y="506520"/>
          <a:ext cx="8437320" cy="61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06520"/>
                    <a:ext cx="8437320" cy="61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46200" y="538200"/>
          <a:ext cx="8067600" cy="56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538200"/>
                    <a:ext cx="8067600" cy="56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17600" y="511200"/>
          <a:ext cx="87138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511200"/>
                    <a:ext cx="87138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60400" y="550800"/>
          <a:ext cx="7705800" cy="59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550800"/>
                    <a:ext cx="7705800" cy="59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23800" y="577800"/>
          <a:ext cx="81756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77800"/>
                    <a:ext cx="8175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23800" y="577800"/>
          <a:ext cx="817560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77800"/>
                    <a:ext cx="817560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98400" y="511200"/>
          <a:ext cx="8136000" cy="61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11200"/>
                    <a:ext cx="8136000" cy="61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4:36:52Z</dcterms:created>
  <dc:creator>jalvarez</dc:creator>
  <dc:description/>
  <dc:language>en-US</dc:language>
  <cp:lastModifiedBy>jalvarez</cp:lastModifiedBy>
  <cp:lastPrinted>2006-08-19T16:06:24Z</cp:lastPrinted>
  <dcterms:modified xsi:type="dcterms:W3CDTF">2009-10-05T12:16:19Z</dcterms:modified>
  <cp:revision>30</cp:revision>
  <dc:subject/>
  <dc:title>Sin título de diapositiva</dc:title>
</cp:coreProperties>
</file>