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0D4-FF16-4B07-94E4-F7C93F33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34F-6F12-4BAA-A4B9-AF4668F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7E3-8A34-4EB9-8DA5-28B4A8BF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D22-2ADF-4598-B78C-9B2E68E0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F2D-11D2-43F9-9B29-FDC0304A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EF9-3F05-4B19-A0A8-B87157E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EFE-FEE0-453C-8835-91EE7C49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D44-ACD3-472D-A5EC-BBB1691C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268-D9B3-4F16-8CC9-B66EBA51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B12-A26E-49EE-BCC2-37BF5DD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2C8-3EBF-4667-A5A6-418A0CF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39C-0C0E-41A6-B7E4-6BBC7AD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82F9-27B4-4EA1-9BA8-668A65FC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óxim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ércoles a las 10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f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jalvarez</cp:lastModifiedBy>
  <cp:lastPrinted>2006-08-19T16:06:24Z</cp:lastPrinted>
  <dcterms:modified xsi:type="dcterms:W3CDTF">2009-10-05T12:16:19Z</dcterms:modified>
  <cp:revision>30</cp:revision>
  <dc:subject/>
  <dc:title>Sin título de diapositiva</dc:title>
</cp:coreProperties>
</file>