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5BD-BCD6-45F8-B1C5-9A1AF977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368-5FD6-48EF-9062-4E54FC55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267-132A-4096-B1F9-DA17F485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285-7A56-4D1F-BA43-B1492000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FC0-6BCB-4B29-B130-55341435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FA7-F1B7-4662-B917-7DEA60D4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FCB-1BCD-47D8-A424-4BE48738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B19-128A-4884-B825-72DF792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06C-E702-4EFF-8E60-8299402E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01F-A6BA-4832-BB00-B29ED01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18D-3A08-4E3E-A911-3FB704B0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496-EEBA-4470-8731-2B5BEF7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87E8-DD86-43F9-AB4F-CD4053A5B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4600" y="120600"/>
          <a:ext cx="8780400" cy="71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20600"/>
                    <a:ext cx="87804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19200" y="658800"/>
          <a:ext cx="81342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8800"/>
                    <a:ext cx="81342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93640" y="568440"/>
          <a:ext cx="84978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68440"/>
                    <a:ext cx="84978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3200" y="565200"/>
          <a:ext cx="86868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65200"/>
                    <a:ext cx="86868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4200" y="538200"/>
          <a:ext cx="83232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3232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4200" y="538200"/>
          <a:ext cx="82026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2026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57200"/>
          <a:ext cx="8699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57200"/>
                    <a:ext cx="8699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7495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. calculando término de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true; i+=2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Math.abs(termino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psilon) break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37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5. abrevi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h.abs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+=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tangente: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no: 1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!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!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aritmo natur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Z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. . .) con Z =(x-1)/(x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óxim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ércoles a las 10 h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f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4720" y="685800"/>
          <a:ext cx="84470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685800"/>
                    <a:ext cx="84470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506520"/>
          <a:ext cx="84373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4373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46200" y="538200"/>
          <a:ext cx="80676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38200"/>
                    <a:ext cx="80676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17600" y="511200"/>
          <a:ext cx="8713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713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60400" y="550800"/>
          <a:ext cx="770580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50800"/>
                    <a:ext cx="77058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23800" y="577800"/>
          <a:ext cx="8175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23800" y="577800"/>
          <a:ext cx="81756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511200"/>
          <a:ext cx="8136000" cy="61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11200"/>
                    <a:ext cx="81360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4:36:52Z</dcterms:created>
  <dc:creator>jalvarez</dc:creator>
  <dc:description/>
  <dc:language>en-US</dc:language>
  <cp:lastModifiedBy>jalvarez</cp:lastModifiedBy>
  <cp:lastPrinted>2006-08-19T16:06:24Z</cp:lastPrinted>
  <dcterms:modified xsi:type="dcterms:W3CDTF">2009-10-05T12:16:19Z</dcterms:modified>
  <cp:revision>30</cp:revision>
  <dc:subject/>
  <dc:title>Sin título de diapositiva</dc:title>
</cp:coreProperties>
</file>