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7B1E-D1B0-4152-B190-53C06A12E9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9FF5-805A-42C9-8C77-3444848389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8BC-7953-4D14-A041-2C706C6126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Marcador de encabezado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5 Marcador de número de diapositiva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02ED-611D-4BFF-B7FE-70E38F36E1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F8C8-8992-4AA4-B47F-43D09F3862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09D-C928-4CE4-BF52-130D2B1F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91F-B69B-4BF3-916B-27241140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B04-700D-4844-97DD-4D64052D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8A3-B784-4E88-87F6-913E9E5D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701-ADB8-4436-8AD8-831AAF74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077-F66D-4CA4-8685-30A2CA90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525-F1A7-4E1E-8616-6AC0D0B1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060-E57C-4FC1-ADB4-D03759C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4F2-40DB-40CA-81D2-E5246568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AF8-3498-473E-96B7-B0C2479C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31C-6D40-44C5-B709-7799D31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4EB-56C4-4570-AB9F-6CC49C7B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3C5-4273-4EC3-80F0-53F983B69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nbaloian</cp:lastModifiedBy>
  <cp:lastPrinted>2006-05-31T13:28:42Z</cp:lastPrinted>
  <dcterms:modified xsi:type="dcterms:W3CDTF">2010-05-28T13:59:33Z</dcterms:modified>
  <cp:revision>23</cp:revision>
  <dc:subject/>
  <dc:title>Sin título de diapositiva</dc:title>
</cp:coreProperties>
</file>