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EE27-24E4-4EE4-9BDC-1D3471A020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7454-92A0-4B6A-B3DB-883E7F528C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010-2C56-4F01-BEEF-2E2E9B3389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5 Marcador de número de diapositiva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385-8B23-499B-850A-EB54455BB2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ACE-BB17-43E8-9EC5-7F00260EB0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687-16ED-469B-99B2-161F9FCC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DBD-5083-478E-8C52-5CA878CD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7AD-29E9-413E-8DA4-427AE481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71F-CAD8-42B4-99DC-E6DEF940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1AE-D043-4F11-8C81-D449565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A50-1B14-46E8-9A0B-3DC9C17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714-1B47-436C-969C-FA1718C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987-2CB4-4FFC-82B2-4904C66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E81-7D26-49F3-98DC-E048B1C7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AD7-306F-455D-98A1-00C770D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12D-947E-4B8C-A815-C8E9FA19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F6D-D5A6-4C9E-9C2A-23772C9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B23-C42F-4115-946C-F099046A4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nbaloian</cp:lastModifiedBy>
  <cp:lastPrinted>2006-05-31T13:28:42Z</cp:lastPrinted>
  <dcterms:modified xsi:type="dcterms:W3CDTF">2010-05-28T13:59:33Z</dcterms:modified>
  <cp:revision>23</cp:revision>
  <dc:subject/>
  <dc:title>Sin título de diapositiva</dc:title>
</cp:coreProperties>
</file>