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8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55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2200"/>
            <a:ext cx="29559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A3B6-B578-4D70-86EF-B3D2444679B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8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5761-A875-490C-9403-A64AE29AFD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8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48F9-F265-4DB3-8685-70A24E6D519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3 Marcador de encabezado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8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5 Marcador de número de diapositiva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9B07-7253-49BF-AA6C-E4DFF69FD2B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55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8: Búsqueda y Orden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41920" y="9412200"/>
            <a:ext cx="2955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4F47-5C7A-4120-8699-19AEAA03C0F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09720" y="730080"/>
            <a:ext cx="4976640" cy="37324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85960" y="4707000"/>
            <a:ext cx="50241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950-2826-4217-B787-B3BEF3BA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BE8-8DD3-403B-9546-EB72146F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A12-03B8-4D1D-8230-A8015A7E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78A-B5E3-4336-8DE5-9BA5C8FC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597-FA5A-4D25-BF04-B7A74356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5C2-9D1E-4049-933A-D7AB16DB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81E-430B-48AB-AEB6-1A804FFD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297-71C5-40DC-956E-0EFA9DAB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01D-E1A7-4641-9287-001C03DF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A9AF-7AB0-4303-89AC-B8BFB2FB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6A6-1F5A-41C9-8C72-2AA80CF0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D6B-7449-42AC-9B16-335A1824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C70B-18E2-4704-84D5-A3E4AD237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511200" y="577800"/>
          <a:ext cx="84852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77800"/>
                    <a:ext cx="84852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511200" y="309600"/>
          <a:ext cx="86598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9600"/>
                    <a:ext cx="8659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38200" y="430200"/>
          <a:ext cx="82962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30200"/>
                    <a:ext cx="82962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349200" y="469800"/>
          <a:ext cx="8686800" cy="703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69800"/>
                    <a:ext cx="8686800" cy="70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806400" y="484200"/>
          <a:ext cx="78138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4200"/>
                    <a:ext cx="78138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44600" y="406440"/>
          <a:ext cx="8585280" cy="68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6440"/>
                    <a:ext cx="85852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380880" y="406440"/>
          <a:ext cx="8737560" cy="791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6440"/>
                    <a:ext cx="8737560" cy="79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635040" y="635040"/>
          <a:ext cx="8051760" cy="55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635040"/>
                    <a:ext cx="805176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44600" y="431640"/>
          <a:ext cx="8407440" cy="65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1640"/>
                    <a:ext cx="840744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69800" y="444600"/>
          <a:ext cx="89154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9154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511200" y="565200"/>
          <a:ext cx="8094600" cy="53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65200"/>
                    <a:ext cx="809460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03200" y="469800"/>
          <a:ext cx="8578800" cy="59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788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658800" y="511200"/>
          <a:ext cx="8121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11200"/>
                    <a:ext cx="8121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nbaloian</cp:lastModifiedBy>
  <cp:lastPrinted>2006-05-31T13:28:42Z</cp:lastPrinted>
  <dcterms:modified xsi:type="dcterms:W3CDTF">2010-05-28T13:59:33Z</dcterms:modified>
  <cp:revision>23</cp:revision>
  <dc:subject/>
  <dc:title>Sin título de diapositiva</dc:title>
</cp:coreProperties>
</file>