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39440"/>
            <a:ext cx="49435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664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38664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E13241-0C90-4BC2-9857-2CE8E7262C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9FE9C9-27FF-4629-B94E-1A15BEF2B6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DD71B3-62AD-4D23-BFA2-48D0AA26BA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E30-61F5-4A76-9B16-069649B1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755-3F52-4540-8ADF-451D2ED3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88F-7BBF-402A-B2A4-8EB93303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571-08F3-44AB-B06B-8B768F27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336-6C10-4E2C-8713-6E7277C2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DF0-B28C-4835-BDA2-E0413DCF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68F-B0F0-4B75-9D8A-8BD971D8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936-9D67-43CF-B43E-4422D1D8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21C-97ED-422F-BF00-8D989D90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F00-25DC-459A-882E-04044B6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228-4543-4510-8453-8DD35D06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0F4-34FE-4B74-BB4B-996B1F73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FC9A-55AB-4A0E-9109-1E400E4AD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603360" y="620640"/>
          <a:ext cx="8202600" cy="57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20260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603360" y="620640"/>
          <a:ext cx="81057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057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603360" y="620640"/>
          <a:ext cx="803412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3412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612720" y="506520"/>
          <a:ext cx="819324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06520"/>
                    <a:ext cx="819324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65120" y="612720"/>
          <a:ext cx="8383680" cy="59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12720"/>
                    <a:ext cx="83836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479520" y="595440"/>
          <a:ext cx="846936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595440"/>
                    <a:ext cx="84693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26"/>
          <p:cNvGraphicFramePr/>
          <p:nvPr/>
        </p:nvGraphicFramePr>
        <p:xfrm>
          <a:off x="488880" y="390600"/>
          <a:ext cx="822024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90600"/>
                    <a:ext cx="822024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nbaloian</cp:lastModifiedBy>
  <cp:lastPrinted>2006-05-09T15:34:00Z</cp:lastPrinted>
  <dcterms:modified xsi:type="dcterms:W3CDTF">2010-05-13T22:13:41Z</dcterms:modified>
  <cp:revision>25</cp:revision>
  <dc:subject/>
  <dc:title>Sin título de diapositiva</dc:title>
</cp:coreProperties>
</file>