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9080" y="739440"/>
            <a:ext cx="49435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3240" y="4692600"/>
            <a:ext cx="4975200" cy="444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664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360" y="938664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EA1AAF-A884-4601-A740-CA5DE11B84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44259B-E06C-40B4-8425-262AC1BBEFF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3240" y="4692600"/>
            <a:ext cx="49752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2B518A-4DF8-45F8-AA72-F487149F044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3240" y="4692600"/>
            <a:ext cx="49752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0D0-FD78-458B-9BB7-47C8037D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4F7-85A3-4B06-A581-C6ECC9BB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C71-26F4-4252-9AE1-3F81CFF7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F2B-0DEC-4AC8-8531-B7B8FA7A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0DE-1545-415A-8324-160A552B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AE5-0C82-4BE0-BEB4-07729BBB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CE6-E765-48CC-8925-B0AEAB30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CD3-3191-4377-8D2F-1326079C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EB7-6505-481F-8D0D-88641597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2CC-48BE-4455-9993-7811ACAB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EE1-BCDA-43A1-AF4A-EFCFF44F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F945-8A51-4EA7-A3BD-B4E05987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2B57-FE4C-4530-9DF8-D85CDC41F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603360" y="620640"/>
          <a:ext cx="8202600" cy="579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202600" cy="57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603360" y="620640"/>
          <a:ext cx="81057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1057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603360" y="620640"/>
          <a:ext cx="8034120" cy="57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3412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612720" y="506520"/>
          <a:ext cx="819324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506520"/>
                    <a:ext cx="819324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762120" y="546120"/>
          <a:ext cx="79246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6120"/>
                    <a:ext cx="79246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65120" y="612720"/>
          <a:ext cx="8383680" cy="591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612720"/>
                    <a:ext cx="8383680" cy="59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479520" y="595440"/>
          <a:ext cx="846936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595440"/>
                    <a:ext cx="846936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1026"/>
          <p:cNvGraphicFramePr/>
          <p:nvPr/>
        </p:nvGraphicFramePr>
        <p:xfrm>
          <a:off x="488880" y="390600"/>
          <a:ext cx="822024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390600"/>
                    <a:ext cx="822024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420840" y="803160"/>
          <a:ext cx="8288280" cy="520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03160"/>
                    <a:ext cx="8288280" cy="52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nbaloian</cp:lastModifiedBy>
  <cp:lastPrinted>2006-05-09T15:34:00Z</cp:lastPrinted>
  <dcterms:modified xsi:type="dcterms:W3CDTF">2010-05-13T22:13:41Z</dcterms:modified>
  <cp:revision>25</cp:revision>
  <dc:subject/>
  <dc:title>Sin título de diapositiva</dc:title>
</cp:coreProperties>
</file>